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76875-0D79-486F-91A3-4828D856AA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2040" y="484200"/>
            <a:ext cx="639144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99720"/>
            <a:ext cx="803736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72960"/>
            <a:ext cx="803736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97EA0-D7E8-4CA3-96A9-A6535457F0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2040" y="484200"/>
            <a:ext cx="639144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99720"/>
            <a:ext cx="392220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5960" y="1899720"/>
            <a:ext cx="392220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72960"/>
            <a:ext cx="392220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5960" y="3972960"/>
            <a:ext cx="392220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47EF7-9B21-45BC-B1DC-8BEFBA245F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92040" y="484200"/>
            <a:ext cx="639144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99720"/>
            <a:ext cx="258768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74480" y="1899720"/>
            <a:ext cx="258768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92120" y="1899720"/>
            <a:ext cx="258768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72960"/>
            <a:ext cx="258768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74480" y="3972960"/>
            <a:ext cx="258768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92120" y="3972960"/>
            <a:ext cx="258768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5DBF4-E81B-4730-8931-B834DFEF46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D3038-1DD4-43B0-A245-8ED2D2B4152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2040" y="484200"/>
            <a:ext cx="639144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899720"/>
            <a:ext cx="8037360" cy="396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bi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1EBC1-CE44-4966-B244-A7B6E199A53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2040" y="484200"/>
            <a:ext cx="639144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99720"/>
            <a:ext cx="8037360" cy="3969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4F323-6240-46EE-9384-2A6EBF61A63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2040" y="484200"/>
            <a:ext cx="639144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899720"/>
            <a:ext cx="3922200" cy="3969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5960" y="1899720"/>
            <a:ext cx="3922200" cy="3969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E9D3A-A5AF-4779-B03D-F2AAF4F4787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2040" y="484200"/>
            <a:ext cx="639144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539D1-65D7-4374-A5A4-726E08926F7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92040" y="484200"/>
            <a:ext cx="639144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bi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21AD8-5EE7-41F5-888E-19C80A02332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2040" y="484200"/>
            <a:ext cx="639144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99720"/>
            <a:ext cx="392220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5960" y="1899720"/>
            <a:ext cx="3922200" cy="3969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72960"/>
            <a:ext cx="392220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9BACF-CD3E-4110-B618-450CC3D28C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2040" y="484200"/>
            <a:ext cx="639144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899720"/>
            <a:ext cx="8037360" cy="396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bi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36F42-B5B5-4AF4-AE4D-8D7AC9D173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2040" y="484200"/>
            <a:ext cx="639144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99720"/>
            <a:ext cx="3922200" cy="3969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5960" y="1899720"/>
            <a:ext cx="392220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5960" y="3972960"/>
            <a:ext cx="392220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F5D4F-48C4-47A9-8DE6-875489B20FF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2040" y="484200"/>
            <a:ext cx="639144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99720"/>
            <a:ext cx="392220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5960" y="1899720"/>
            <a:ext cx="392220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72960"/>
            <a:ext cx="803736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18915-A323-4E6C-A104-354047C50C1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2040" y="484200"/>
            <a:ext cx="639144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899720"/>
            <a:ext cx="803736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72960"/>
            <a:ext cx="803736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F7D51-9369-4549-BD3A-C3505E3C672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2040" y="484200"/>
            <a:ext cx="639144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99720"/>
            <a:ext cx="392220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5960" y="1899720"/>
            <a:ext cx="392220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72960"/>
            <a:ext cx="392220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5960" y="3972960"/>
            <a:ext cx="392220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296C7-2353-494E-AD90-01CE6995133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2040" y="484200"/>
            <a:ext cx="639144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899720"/>
            <a:ext cx="258768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74480" y="1899720"/>
            <a:ext cx="258768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892120" y="1899720"/>
            <a:ext cx="258768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72960"/>
            <a:ext cx="258768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174480" y="3972960"/>
            <a:ext cx="258768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892120" y="3972960"/>
            <a:ext cx="258768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7A4C0-0384-4DE4-9D07-4094AD9A9EE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231B42-E384-441F-A955-80E137AAF7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2040" y="484200"/>
            <a:ext cx="639144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899720"/>
            <a:ext cx="8037360" cy="396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bi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C21A65-B3CA-434F-85AA-F2BB67580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2040" y="484200"/>
            <a:ext cx="639144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899720"/>
            <a:ext cx="8037360" cy="3969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50D861-A4F4-401E-84B4-EF8EA1836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2040" y="484200"/>
            <a:ext cx="639144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99720"/>
            <a:ext cx="3922200" cy="3969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5960" y="1899720"/>
            <a:ext cx="3922200" cy="3969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DCC098-BAB7-4ECC-B638-6036EE4A2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2040" y="484200"/>
            <a:ext cx="639144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23455C-89BC-4CC2-8E73-5FE1B902F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2040" y="484200"/>
            <a:ext cx="639144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899720"/>
            <a:ext cx="8037360" cy="3969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EB8DC-9C25-4F06-B6DF-49746D7926D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392040" y="484200"/>
            <a:ext cx="639144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bi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BDC8EE-0347-4756-9997-2622B7BE5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2040" y="484200"/>
            <a:ext cx="639144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99720"/>
            <a:ext cx="392220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5960" y="1899720"/>
            <a:ext cx="3922200" cy="3969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72960"/>
            <a:ext cx="392220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F87FC4-635E-466C-8A68-18059E9BA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2040" y="484200"/>
            <a:ext cx="639144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99720"/>
            <a:ext cx="3922200" cy="3969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5960" y="1899720"/>
            <a:ext cx="392220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5960" y="3972960"/>
            <a:ext cx="392220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46D254-2EEB-4D11-A66A-8C714F0E0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2040" y="484200"/>
            <a:ext cx="639144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899720"/>
            <a:ext cx="392220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5960" y="1899720"/>
            <a:ext cx="392220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72960"/>
            <a:ext cx="803736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DBC664-7908-4A50-92AE-25CADF12E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2040" y="484200"/>
            <a:ext cx="639144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899720"/>
            <a:ext cx="803736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72960"/>
            <a:ext cx="803736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A9AA52-54EC-4C72-83B4-51D66C039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2040" y="484200"/>
            <a:ext cx="639144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899720"/>
            <a:ext cx="392220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5960" y="1899720"/>
            <a:ext cx="392220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72960"/>
            <a:ext cx="392220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5960" y="3972960"/>
            <a:ext cx="392220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33467C-8B4E-475B-86A3-107B1FFB9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2040" y="484200"/>
            <a:ext cx="639144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99720"/>
            <a:ext cx="258768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174480" y="1899720"/>
            <a:ext cx="258768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892120" y="1899720"/>
            <a:ext cx="258768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72960"/>
            <a:ext cx="258768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174480" y="3972960"/>
            <a:ext cx="258768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892120" y="3972960"/>
            <a:ext cx="258768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98E269-A133-4DDD-92FD-DE20BCD42C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6A63A6-43A1-4B54-A6B0-501D9A5C2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2040" y="484200"/>
            <a:ext cx="639144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899720"/>
            <a:ext cx="8037360" cy="396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bi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3AE256-F706-4222-8C79-6FE05A202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2040" y="484200"/>
            <a:ext cx="639144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899720"/>
            <a:ext cx="8037360" cy="3969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A7422D-EBF4-4BE6-AAFA-91936BDA5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2040" y="484200"/>
            <a:ext cx="639144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99720"/>
            <a:ext cx="3922200" cy="3969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75960" y="1899720"/>
            <a:ext cx="3922200" cy="3969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D5948-7BE2-4217-9382-0429324DC35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2040" y="484200"/>
            <a:ext cx="639144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899720"/>
            <a:ext cx="3922200" cy="3969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5960" y="1899720"/>
            <a:ext cx="3922200" cy="3969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6A4543-9389-4A58-8160-F0B0EF68A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2040" y="484200"/>
            <a:ext cx="639144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4CC4A9-44A8-4FED-9CCF-EDD16E7A0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392040" y="484200"/>
            <a:ext cx="639144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bi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2DF973-A2E9-4DB0-9F51-3C02D2736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2040" y="484200"/>
            <a:ext cx="639144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99720"/>
            <a:ext cx="392220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5960" y="1899720"/>
            <a:ext cx="3922200" cy="3969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72960"/>
            <a:ext cx="392220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820BC9-7BBF-4353-84BC-6302658E9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2040" y="484200"/>
            <a:ext cx="639144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899720"/>
            <a:ext cx="3922200" cy="3969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5960" y="1899720"/>
            <a:ext cx="392220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5960" y="3972960"/>
            <a:ext cx="392220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CF6BCC-F326-4C64-96F4-9A7998124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2040" y="484200"/>
            <a:ext cx="639144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899720"/>
            <a:ext cx="392220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5960" y="1899720"/>
            <a:ext cx="392220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72960"/>
            <a:ext cx="803736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10995E-322E-4881-A582-9CF9191DE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2040" y="484200"/>
            <a:ext cx="639144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899720"/>
            <a:ext cx="803736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72960"/>
            <a:ext cx="803736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BC69B6-D359-40F2-BB16-2B740AB53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2040" y="484200"/>
            <a:ext cx="639144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899720"/>
            <a:ext cx="392220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5960" y="1899720"/>
            <a:ext cx="392220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72960"/>
            <a:ext cx="392220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5960" y="3972960"/>
            <a:ext cx="392220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CB6134-6B2A-4DAA-A607-9727431E7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2040" y="484200"/>
            <a:ext cx="639144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99720"/>
            <a:ext cx="258768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174480" y="1899720"/>
            <a:ext cx="258768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892120" y="1899720"/>
            <a:ext cx="258768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72960"/>
            <a:ext cx="258768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174480" y="3972960"/>
            <a:ext cx="258768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892120" y="3972960"/>
            <a:ext cx="258768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EF96C4-FFC1-4DB4-AF23-07137B7DC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2040" y="484200"/>
            <a:ext cx="639144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3353E-11B7-41DF-8450-853A177D63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92040" y="484200"/>
            <a:ext cx="639144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bi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79F3D-8850-4151-8BB0-4FDF55D475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2040" y="484200"/>
            <a:ext cx="639144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99720"/>
            <a:ext cx="392220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5960" y="1899720"/>
            <a:ext cx="3922200" cy="3969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72960"/>
            <a:ext cx="392220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36ACF-4602-4F1D-9255-54BEE4ABCF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2040" y="484200"/>
            <a:ext cx="639144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99720"/>
            <a:ext cx="3922200" cy="3969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5960" y="1899720"/>
            <a:ext cx="392220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5960" y="3972960"/>
            <a:ext cx="392220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9CE56-1954-427C-8094-0946163A6D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2040" y="484200"/>
            <a:ext cx="639144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99720"/>
            <a:ext cx="392220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5960" y="1899720"/>
            <a:ext cx="392220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72960"/>
            <a:ext cx="803736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EB9B5-6322-4B8D-98B8-190A6A6F7D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12760" cy="3797280"/>
            <a:chOff x="-3238560" y="0"/>
            <a:chExt cx="11912760" cy="37972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02200" cy="3111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81240" cy="31417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026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70160" y="231480"/>
            <a:ext cx="73008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70160" y="1827360"/>
            <a:ext cx="7300800" cy="55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212112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48D3DC-5B4B-482E-B5CE-5AEA863C3EAF}" type="slidenum">
              <a:rPr b="0" lang="ru-RU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896920" cy="4711680"/>
            <a:chOff x="-3222720" y="304920"/>
            <a:chExt cx="11896920" cy="47116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262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45000" cy="36450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25880" cy="40258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0160" y="231480"/>
            <a:ext cx="73008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70160" y="1827360"/>
            <a:ext cx="7300800" cy="55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212112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12E13A-BDF5-44AF-A9D1-AB81585CC06D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7000" cy="11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7000" cy="46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20760" cy="35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8b8b8b"/>
                </a:solidFill>
                <a:latin typeface="Calibri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09DEC3-5273-45A4-94A8-A8331D354D29}" type="datetime"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4"/>
          </p:nvPr>
        </p:nvSpPr>
        <p:spPr>
          <a:xfrm>
            <a:off x="6553080" y="6356520"/>
            <a:ext cx="2121120" cy="35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8b8b8b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7F0DB4-55E5-43B2-B8BA-9123040EB396}" type="slidenum"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2040" y="484200"/>
            <a:ext cx="639144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899720"/>
            <a:ext cx="8037360" cy="3969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5"/>
          </p:nvPr>
        </p:nvSpPr>
        <p:spPr>
          <a:xfrm>
            <a:off x="456840" y="5943600"/>
            <a:ext cx="212076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6"/>
          </p:nvPr>
        </p:nvSpPr>
        <p:spPr>
          <a:xfrm>
            <a:off x="3127320" y="5943600"/>
            <a:ext cx="288936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7"/>
          </p:nvPr>
        </p:nvSpPr>
        <p:spPr>
          <a:xfrm>
            <a:off x="6556320" y="5927760"/>
            <a:ext cx="212112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460E46-9C88-4954-8D6C-8D9F5C6E676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rian.ru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900000" y="301680"/>
            <a:ext cx="7848720" cy="18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1f497d"/>
                </a:solidFill>
                <a:latin typeface="Arial"/>
              </a:rPr>
              <a:t>Медиаотрасль: основные характеристики и тренд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258920" y="2133720"/>
            <a:ext cx="6168960" cy="441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216000" y="1655640"/>
            <a:ext cx="489564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72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«Кросс-медиа» - это медиа-продукт (услуга, опыт или история), распространенный через медиа-платформы, каналы,  используя различные медиа-инструменты. Кроссмедиа приглашают пользователя (читателя, зрителя и т. п.) обратиться от одного медиа к другому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5256360" y="1728720"/>
            <a:ext cx="3671640" cy="453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rcRect l="0" t="0" r="791" b="11811"/>
          <a:stretch/>
        </p:blipFill>
        <p:spPr>
          <a:xfrm>
            <a:off x="6480" y="1440"/>
            <a:ext cx="8993160" cy="604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rcRect l="1504" t="31087" r="2362" b="8572"/>
          <a:stretch/>
        </p:blipFill>
        <p:spPr>
          <a:xfrm>
            <a:off x="216000" y="792000"/>
            <a:ext cx="8783640" cy="532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rcRect l="-70" t="16762" r="2429" b="10787"/>
          <a:stretch/>
        </p:blipFill>
        <p:spPr>
          <a:xfrm>
            <a:off x="216000" y="576360"/>
            <a:ext cx="8928000" cy="55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rcRect l="3055" t="3118" r="780" b="20215"/>
          <a:stretch/>
        </p:blipFill>
        <p:spPr>
          <a:xfrm>
            <a:off x="0" y="360360"/>
            <a:ext cx="9072720" cy="58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70160" y="255600"/>
            <a:ext cx="73134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Arial"/>
              </a:rPr>
              <a:t>Сегменты отрасли медиа и коммуникац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576360" y="1584360"/>
            <a:ext cx="845964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0120" indent="-330120">
              <a:spcBef>
                <a:spcPts val="726"/>
              </a:spcBef>
              <a:buClr>
                <a:srgbClr val="1f497d"/>
              </a:buClr>
              <a:buSzPct val="70000"/>
              <a:buFont typeface="Wingdings" charset="2"/>
              <a:buChar char="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трасли производства любого контента, включая производство цифрового контента (в том числе приложения, игры и мультимедиа);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0120" indent="-330120">
              <a:spcBef>
                <a:spcPts val="726"/>
              </a:spcBef>
              <a:buClr>
                <a:srgbClr val="1f497d"/>
              </a:buClr>
              <a:buSzPct val="70000"/>
              <a:buFont typeface="Wingdings" charset="2"/>
              <a:buChar char="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музыкальная индустрия;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0120" indent="-330120">
              <a:spcBef>
                <a:spcPts val="726"/>
              </a:spcBef>
              <a:buClr>
                <a:srgbClr val="1f497d"/>
              </a:buClr>
              <a:buSzPct val="70000"/>
              <a:buFont typeface="Wingdings" charset="2"/>
              <a:buChar char="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киноиндустрия;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0120" indent="-330120">
              <a:spcBef>
                <a:spcPts val="726"/>
              </a:spcBef>
              <a:buClr>
                <a:srgbClr val="1f497d"/>
              </a:buClr>
              <a:buSzPct val="70000"/>
              <a:buFont typeface="Wingdings" charset="2"/>
              <a:buChar char="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(условно) отдельный потребитель, который становится источником контента и его распространения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370160" y="255600"/>
            <a:ext cx="73134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1f497d"/>
                </a:solidFill>
                <a:latin typeface="Arial"/>
              </a:rPr>
              <a:t>Сегменты отрасли медиа и коммуникаци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"/>
          <p:cNvSpPr/>
          <p:nvPr/>
        </p:nvSpPr>
        <p:spPr>
          <a:xfrm>
            <a:off x="684360" y="1844640"/>
            <a:ext cx="845964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0120" indent="-330120">
              <a:spcBef>
                <a:spcPts val="726"/>
              </a:spcBef>
              <a:buClr>
                <a:srgbClr val="1f497d"/>
              </a:buClr>
              <a:buSzPct val="70000"/>
              <a:buFont typeface="Wingdings" charset="2"/>
              <a:buChar char="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трасли обеспечивающие  хранение контента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0120" indent="-330120">
              <a:spcBef>
                <a:spcPts val="726"/>
              </a:spcBef>
              <a:buClr>
                <a:srgbClr val="1f497d"/>
              </a:buClr>
              <a:buSzPct val="70000"/>
              <a:buFont typeface="Wingdings" charset="2"/>
              <a:buChar char="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трасли передачи контента, включающие в себя все последние разработки, позволяющие быстро и качественно распространять контент, охватывая максимально возможную аудиторию;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0120" indent="-330120">
              <a:spcBef>
                <a:spcPts val="726"/>
              </a:spcBef>
              <a:buClr>
                <a:srgbClr val="1f497d"/>
              </a:buClr>
              <a:buSzPct val="70000"/>
              <a:buFont typeface="Wingdings" charset="2"/>
              <a:buChar char="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трасли, обеспечивающие продвижение и монетизацию контента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900000" y="1628640"/>
            <a:ext cx="777564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0120" indent="-330120">
              <a:spcBef>
                <a:spcPts val="726"/>
              </a:spcBef>
              <a:buClr>
                <a:srgbClr val="1f497d"/>
              </a:buClr>
              <a:buSzPct val="70000"/>
              <a:buFont typeface="Wingdings" charset="2"/>
              <a:buChar char="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Главной задачей для медиа сегодня  является удовлетворение потребностей аудитории в удобное для нее время и на соответствующем носителе информаци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0120" indent="-330120">
              <a:spcBef>
                <a:spcPts val="726"/>
              </a:spcBef>
              <a:tabLst>
                <a:tab algn="l" pos="0"/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826920" y="476280"/>
            <a:ext cx="785664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1f497d"/>
                </a:solidFill>
                <a:latin typeface="Arial"/>
              </a:rPr>
              <a:t>Характеристики отрасл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"/>
          <p:cNvSpPr/>
          <p:nvPr/>
        </p:nvSpPr>
        <p:spPr>
          <a:xfrm>
            <a:off x="611280" y="1628640"/>
            <a:ext cx="7785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0120" indent="-330120">
              <a:spcBef>
                <a:spcPts val="726"/>
              </a:spcBef>
              <a:buClr>
                <a:srgbClr val="1f497d"/>
              </a:buClr>
              <a:buSzPct val="70000"/>
              <a:buFont typeface="Wingdings" charset="2"/>
              <a:buChar char="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в отрасли изменился цикл производства информации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0120" indent="-330120">
              <a:spcBef>
                <a:spcPts val="726"/>
              </a:spcBef>
              <a:buClr>
                <a:srgbClr val="1f497d"/>
              </a:buClr>
              <a:buSzPct val="70000"/>
              <a:buFont typeface="Wingdings" charset="2"/>
              <a:buChar char="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изменилась структура источника информации;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0120" indent="-330120">
              <a:spcBef>
                <a:spcPts val="726"/>
              </a:spcBef>
              <a:buClr>
                <a:srgbClr val="1f497d"/>
              </a:buClr>
              <a:buSzPct val="70000"/>
              <a:buFont typeface="Wingdings" charset="2"/>
              <a:buChar char="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используются непрофессиональные источники информации (гражданская журналистика??? – споры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0120" indent="-330120">
              <a:spcBef>
                <a:spcPts val="726"/>
              </a:spcBef>
              <a:tabLst>
                <a:tab algn="l" pos="0"/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826920" y="476280"/>
            <a:ext cx="785664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1f497d"/>
                </a:solidFill>
                <a:latin typeface="Arial"/>
              </a:rPr>
              <a:t>Характеристики отрасл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"/>
          <p:cNvSpPr/>
          <p:nvPr/>
        </p:nvSpPr>
        <p:spPr>
          <a:xfrm>
            <a:off x="719280" y="1655640"/>
            <a:ext cx="813744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01480" indent="-501480" algn="just">
              <a:spcBef>
                <a:spcPts val="726"/>
              </a:spcBef>
              <a:buClr>
                <a:srgbClr val="1f497d"/>
              </a:buClr>
              <a:buSzPct val="45000"/>
              <a:buFont typeface="Wingdings" charset="2"/>
              <a:buChar char=""/>
              <a:tabLst>
                <a:tab algn="l" pos="501480"/>
                <a:tab algn="l" pos="949320"/>
                <a:tab algn="l" pos="1398600"/>
                <a:tab algn="l" pos="1847880"/>
                <a:tab algn="l" pos="2297160"/>
                <a:tab algn="l" pos="2746440"/>
                <a:tab algn="l" pos="3195720"/>
                <a:tab algn="l" pos="3645000"/>
                <a:tab algn="l" pos="4094280"/>
                <a:tab algn="l" pos="4543560"/>
                <a:tab algn="l" pos="4992840"/>
                <a:tab algn="l" pos="5442120"/>
                <a:tab algn="l" pos="5891040"/>
                <a:tab algn="l" pos="6340320"/>
                <a:tab algn="l" pos="6789600"/>
                <a:tab algn="l" pos="7238880"/>
                <a:tab algn="l" pos="7688160"/>
                <a:tab algn="l" pos="8137440"/>
                <a:tab algn="l" pos="8586720"/>
                <a:tab algn="l" pos="903600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Изменились  понятия форматов и жанров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. Например, только мультимедийных форматов, которые сейчас есть в </a:t>
            </a:r>
            <a:r>
              <a:rPr b="0" lang="ru-RU" sz="29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РИА Новости</a:t>
            </a:r>
            <a:r>
              <a:rPr b="0" lang="ru-RU" sz="2900" spc="-1" strike="noStrike">
                <a:solidFill>
                  <a:srgbClr val="2323dc"/>
                </a:solidFill>
                <a:latin typeface="Verdana"/>
              </a:rPr>
              <a:t>,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больше 30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01480" indent="-501480">
              <a:spcBef>
                <a:spcPts val="726"/>
              </a:spcBef>
              <a:buClr>
                <a:srgbClr val="1f497d"/>
              </a:buClr>
              <a:buSzPct val="45000"/>
              <a:buFont typeface="Wingdings" charset="2"/>
              <a:buChar char=""/>
              <a:tabLst>
                <a:tab algn="l" pos="501480"/>
                <a:tab algn="l" pos="949320"/>
                <a:tab algn="l" pos="1398600"/>
                <a:tab algn="l" pos="1847880"/>
                <a:tab algn="l" pos="2297160"/>
                <a:tab algn="l" pos="2746440"/>
                <a:tab algn="l" pos="3195720"/>
                <a:tab algn="l" pos="3645000"/>
                <a:tab algn="l" pos="4094280"/>
                <a:tab algn="l" pos="4543560"/>
                <a:tab algn="l" pos="4992840"/>
                <a:tab algn="l" pos="5442120"/>
                <a:tab algn="l" pos="5891040"/>
                <a:tab algn="l" pos="6340320"/>
                <a:tab algn="l" pos="6789600"/>
                <a:tab algn="l" pos="7238880"/>
                <a:tab algn="l" pos="7688160"/>
                <a:tab algn="l" pos="8137440"/>
                <a:tab algn="l" pos="8586720"/>
                <a:tab algn="l" pos="903600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Больше нет мононосителя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, нет такой последовательности — газета — бумага, радио — эфир, телевизор — эфир; нет моноканала — вещаем везде, во всех каналах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1f497d"/>
                </a:solidFill>
                <a:latin typeface="Arial"/>
              </a:rPr>
              <a:t>Вопрос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1916280"/>
            <a:ext cx="79279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01480" indent="-501480">
              <a:spcBef>
                <a:spcPts val="726"/>
              </a:spcBef>
              <a:buClr>
                <a:srgbClr val="1f497d"/>
              </a:buClr>
              <a:buSzPct val="70000"/>
              <a:buFont typeface="Verdana"/>
              <a:buAutoNum type="arabicPeriod"/>
              <a:tabLst>
                <a:tab algn="l" pos="501480"/>
                <a:tab algn="l" pos="949320"/>
                <a:tab algn="l" pos="1398600"/>
                <a:tab algn="l" pos="1847880"/>
                <a:tab algn="l" pos="2297160"/>
                <a:tab algn="l" pos="2746440"/>
                <a:tab algn="l" pos="3195720"/>
                <a:tab algn="l" pos="3645000"/>
                <a:tab algn="l" pos="4094280"/>
                <a:tab algn="l" pos="4543560"/>
                <a:tab algn="l" pos="4992840"/>
                <a:tab algn="l" pos="5442120"/>
                <a:tab algn="l" pos="5891040"/>
                <a:tab algn="l" pos="6340320"/>
                <a:tab algn="l" pos="6789600"/>
                <a:tab algn="l" pos="7238880"/>
                <a:tab algn="l" pos="7688160"/>
                <a:tab algn="l" pos="8137440"/>
                <a:tab algn="l" pos="8586720"/>
                <a:tab algn="l" pos="903600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трасль медиа и коммуникаций: основные понятия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01480" indent="-501480">
              <a:spcBef>
                <a:spcPts val="726"/>
              </a:spcBef>
              <a:buClr>
                <a:srgbClr val="1f497d"/>
              </a:buClr>
              <a:buSzPct val="70000"/>
              <a:buFont typeface="Verdana"/>
              <a:buAutoNum type="arabicPeriod"/>
              <a:tabLst>
                <a:tab algn="l" pos="501480"/>
                <a:tab algn="l" pos="949320"/>
                <a:tab algn="l" pos="1398600"/>
                <a:tab algn="l" pos="1847880"/>
                <a:tab algn="l" pos="2297160"/>
                <a:tab algn="l" pos="2746440"/>
                <a:tab algn="l" pos="3195720"/>
                <a:tab algn="l" pos="3645000"/>
                <a:tab algn="l" pos="4094280"/>
                <a:tab algn="l" pos="4543560"/>
                <a:tab algn="l" pos="4992840"/>
                <a:tab algn="l" pos="5442120"/>
                <a:tab algn="l" pos="5891040"/>
                <a:tab algn="l" pos="6340320"/>
                <a:tab algn="l" pos="6789600"/>
                <a:tab algn="l" pos="7238880"/>
                <a:tab algn="l" pos="7688160"/>
                <a:tab algn="l" pos="8137440"/>
                <a:tab algn="l" pos="8586720"/>
                <a:tab algn="l" pos="903600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Характеристики и тренды отрасл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01480" indent="-501480">
              <a:spcBef>
                <a:spcPts val="726"/>
              </a:spcBef>
              <a:tabLst>
                <a:tab algn="l" pos="0"/>
                <a:tab algn="l" pos="501480"/>
                <a:tab algn="l" pos="949320"/>
                <a:tab algn="l" pos="1398600"/>
                <a:tab algn="l" pos="1847880"/>
                <a:tab algn="l" pos="2297160"/>
                <a:tab algn="l" pos="2746440"/>
                <a:tab algn="l" pos="3195720"/>
                <a:tab algn="l" pos="3645000"/>
                <a:tab algn="l" pos="4094280"/>
                <a:tab algn="l" pos="4543560"/>
                <a:tab algn="l" pos="4992840"/>
                <a:tab algn="l" pos="5442120"/>
                <a:tab algn="l" pos="5891040"/>
                <a:tab algn="l" pos="6340320"/>
                <a:tab algn="l" pos="6789600"/>
                <a:tab algn="l" pos="7238880"/>
                <a:tab algn="l" pos="7688160"/>
                <a:tab algn="l" pos="8137440"/>
                <a:tab algn="l" pos="8586720"/>
                <a:tab algn="l" pos="9036000"/>
                <a:tab algn="l" pos="948528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826920" y="476280"/>
            <a:ext cx="785664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1f497d"/>
                </a:solidFill>
                <a:latin typeface="Arial"/>
              </a:rPr>
              <a:t>Характеристики отрасл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611280" y="1484280"/>
            <a:ext cx="8208720" cy="54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аудитория больше не готова принимать последовательное освещение информаци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удитория требует от журналистов 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синхронного освещения событий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, то есть фактически все время онлайн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законы в медиаотрасли формирует аудитория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, которая находится под воздействием технологий, новых устройств, дивайсов, каналов передачи информ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826920" y="476280"/>
            <a:ext cx="785664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1f497d"/>
                </a:solidFill>
                <a:latin typeface="Arial"/>
              </a:rPr>
              <a:t>Характеристики отрасл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395280" y="1628640"/>
            <a:ext cx="842472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0120" indent="-330120">
              <a:spcBef>
                <a:spcPts val="726"/>
              </a:spcBef>
              <a:buClr>
                <a:srgbClr val="1f497d"/>
              </a:buClr>
              <a:buSzPct val="45000"/>
              <a:buFont typeface="Wingdings" charset="2"/>
              <a:buChar char="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няется и система оборота информации.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Каждая заметка должна быть максимально таргетированна, не только с точки зрения географии, но и с точки зрения интересов аудитори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0120" indent="-330120">
              <a:spcBef>
                <a:spcPts val="726"/>
              </a:spcBef>
              <a:buClr>
                <a:srgbClr val="1f497d"/>
              </a:buClr>
              <a:buSzPct val="45000"/>
              <a:buFont typeface="Wingdings" charset="2"/>
              <a:buChar char="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Для будущего СМИ это означает, что они не могут больше делать один гармоничный, очень красивый, сбалансированный, взвешенный продукт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684360" y="1844640"/>
            <a:ext cx="7999200" cy="40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0480">
              <a:spcBef>
                <a:spcPts val="726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Главными функциями СМИ в современном мире становится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9840" indent="-330480">
              <a:spcBef>
                <a:spcPts val="726"/>
              </a:spcBef>
              <a:buClr>
                <a:srgbClr val="1f497d"/>
              </a:buClr>
              <a:buSzPct val="70000"/>
              <a:buFont typeface="Wingdings" charset="2"/>
              <a:buChar char="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фильтрация информации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9840" indent="-330480">
              <a:spcBef>
                <a:spcPts val="726"/>
              </a:spcBef>
              <a:buClr>
                <a:srgbClr val="1f497d"/>
              </a:buClr>
              <a:buSzPct val="70000"/>
              <a:buFont typeface="Wingdings" charset="2"/>
              <a:buChar char="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роверка информации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9840" indent="-330480">
              <a:spcBef>
                <a:spcPts val="726"/>
              </a:spcBef>
              <a:buClr>
                <a:srgbClr val="1f497d"/>
              </a:buClr>
              <a:buSzPct val="70000"/>
              <a:buFont typeface="Wingdings" charset="2"/>
              <a:buChar char="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толкование и выделение в ней главного  +  «хороший язык»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71280" y="1295280"/>
            <a:ext cx="9072720" cy="630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0120">
              <a:spcBef>
                <a:spcPts val="726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1280" indent="-330120">
              <a:spcBef>
                <a:spcPts val="726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 России пока отсутствует  системное понимание   медиаотрасл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1280" indent="-330120">
              <a:spcBef>
                <a:spcPts val="726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Ни одно исследовательское или аналитическое агентство в России не дает полной статистики по медиаотрасли. Подходы к  пониманию отрасли и ее измерению отличаются кардинально. Но отрасль  привлекательна для инвестирования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1280" indent="-330120">
              <a:spcBef>
                <a:spcPts val="726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 связи с этим  инвестиционные решения во многом определяются скорее личными предпочтениями инвесторов, чем аналитикой и прогнозированием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611280" y="1628640"/>
            <a:ext cx="8353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0120" indent="-330120">
              <a:spcBef>
                <a:spcPts val="700"/>
              </a:spcBef>
              <a:buClr>
                <a:srgbClr val="1f497d"/>
              </a:buClr>
              <a:buSzPct val="70000"/>
              <a:buFont typeface="Wingdings" charset="2"/>
              <a:buChar char="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витие технологий, формируют многосредовую модель потребления контента, а также стимулирование развития производства отечественного контента и сервис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0120" indent="-330120">
              <a:spcBef>
                <a:spcPts val="700"/>
              </a:spcBef>
              <a:buClr>
                <a:srgbClr val="1f497d"/>
              </a:buClr>
              <a:buSzPct val="70000"/>
              <a:buFont typeface="Wingdings" charset="2"/>
              <a:buChar char="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настоящий момент в российском медиа-пространстве недостаточное количество игроков, которые бы легально распространяли и создавали профессиональный контент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1f497d"/>
                </a:solidFill>
                <a:latin typeface="Arial"/>
              </a:rPr>
              <a:t>Бизнес-модели отрасл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826920" y="1844640"/>
            <a:ext cx="799308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0480">
              <a:spcBef>
                <a:spcPts val="7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1. Рекламные сервисы - платежи от клиентов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30480">
              <a:spcBef>
                <a:spcPts val="7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2. Аудио - продажа музыки, подписка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30480">
              <a:spcBef>
                <a:spcPts val="7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3. Видео - покупка или аренда фильмов, подписк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1f497d"/>
                </a:solidFill>
                <a:latin typeface="Arial"/>
              </a:rPr>
              <a:t>Бизнес-модели отрасл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"/>
          <p:cNvSpPr/>
          <p:nvPr/>
        </p:nvSpPr>
        <p:spPr>
          <a:xfrm>
            <a:off x="324000" y="1444680"/>
            <a:ext cx="8820000" cy="52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048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4. Онлайн игры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3048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a)  free-to-play. Игра бесплатно, но игроки могут тратить деньги на апгрейд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3048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ерсонажей и т.п. (наиболее популярная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3048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b)  Платные игр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3048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c) Создание игровой валюты, которую можно зарабатывать или покупать игровые товар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3048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d)  Выход в оффлайн путем превращения героя игры в потребительский бренд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3048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(пример - Zeptolab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370160" y="255600"/>
            <a:ext cx="73134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1f497d"/>
                </a:solidFill>
                <a:latin typeface="Arial"/>
              </a:rPr>
              <a:t>Бизнес-модели отрасли: сегодня и завтр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"/>
          <p:cNvSpPr/>
          <p:nvPr/>
        </p:nvSpPr>
        <p:spPr>
          <a:xfrm>
            <a:off x="971640" y="1700280"/>
            <a:ext cx="784836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048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5. Социальные сети, СМИ и прочие категори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3048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радиционно бизнес-модели имеют рекламную основу. Однако сегодня, идет отток потребителей из основных средств массовой коммуник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370160" y="255600"/>
            <a:ext cx="7269120" cy="12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Arial"/>
              </a:rPr>
              <a:t>Можно выделить следующие тренды в новых медиа (MediaToolbox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"/>
          <p:cNvSpPr/>
          <p:nvPr/>
        </p:nvSpPr>
        <p:spPr>
          <a:xfrm>
            <a:off x="684360" y="1916280"/>
            <a:ext cx="813564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71280" y="1368360"/>
            <a:ext cx="5112000" cy="67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5 трендов в 2020 г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1.Инстаграмизация, ютубизация и тиктокизация массовой коммуникации. Платформы прочно захватили роль посредника во всех видах коммуникации — людей с людьми, покупателей с брендами, политиков с электоратом, медиа с аудиторией, учителей с учени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2.Политизация социальных сетей и карающие алгоритмы.Появились транснациональные гиганты,  которые диктуют, формируют, караю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896000" y="1569960"/>
            <a:ext cx="4032000" cy="68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5 т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рендов  в 2019 г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1.Работа с сообществами в соцсетях выходит на новы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2.Появляется все больше авторских медиа. 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Авторское медиа журналиста Дудя успешно и прибыльно соседствует с авторским медиа стендапера Поперечного или блогера Сардарова)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370160" y="255600"/>
            <a:ext cx="73134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1f497d"/>
                </a:solidFill>
                <a:latin typeface="Arial"/>
              </a:rPr>
              <a:t>Можно выделить следующие тренды в новых меди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"/>
          <p:cNvSpPr/>
          <p:nvPr/>
        </p:nvSpPr>
        <p:spPr>
          <a:xfrm>
            <a:off x="684360" y="1916280"/>
            <a:ext cx="813564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287280" y="1584360"/>
            <a:ext cx="4464000" cy="56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3. Битва экосистем и суперприложений. Существенная роль в экосистемах отводится контенту и форматам коммуникации с потребителем. На первое место в таких продуктах выходит сам потребитель, его удобство пользования, набор потребностей и жел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4.Цифровая ресоциализация и появление медиа для онлайн-аскетов. Движение цифрового детокса не ново, но сегодня приобретает свежие оттен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5. Переход от хайпа к тихим революциям: блокчейн, vr / ar / xr, подписная модель, управление сообществ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751280" y="1510920"/>
            <a:ext cx="4176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3. Дистрибуция становится все более алгоритмической.(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Единственным и главным мерилом успеха становится аудитория, ее внимание (дочитывания) и участие (комменты, репосты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4.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Те бренды, которые не станут медиа, — умрут. те медиа, которые не станут брендами, — умрут еще быстр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5. Социальное финансирование наступает на рекламную модель. Конечный потребитель сам решает, кого ему поддержать деньг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2665440" cy="39970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1f497d"/>
                </a:solidFill>
                <a:latin typeface="Arial"/>
              </a:rPr>
              <a:t>Литератур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564000" y="1773360"/>
          <a:ext cx="5016600" cy="4109400"/>
        </p:xfrm>
        <a:graphic>
          <a:graphicData uri="http://schemas.openxmlformats.org/drawingml/2006/table">
            <a:tbl>
              <a:tblPr/>
              <a:tblGrid>
                <a:gridCol w="5016600"/>
              </a:tblGrid>
              <a:tr h="541080">
                <a:tc>
                  <a:txBody>
                    <a:bodyPr lIns="75240" rIns="75240" tIns="37800" bIns="37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Е. Л. Вартанова, В. Л. Иваницкий, М. И. Макеенко и др. ; под ред. Е. Л. Вартаново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5240" marR="75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75240" rIns="75240" tIns="37800" bIns="37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Основы медиабизнеса : учебник для студентов ВУЗо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5240" marR="75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200">
                <a:tc>
                  <a:txBody>
                    <a:bodyPr lIns="75240" rIns="75240" tIns="37800" bIns="37800" anchor="t">
                      <a:noAutofit/>
                    </a:bodyPr>
                    <a:p>
                      <a:pPr algn="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5240" marR="75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здательство: Аспект Пре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од издания: 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69000">
                <a:tc>
                  <a:txBody>
                    <a:bodyPr lIns="75240" rIns="75240" tIns="37800" bIns="37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чебник рассматривает СМИ как отрасль экономики, анализирует ее историю и движущие силы, основные тенденции развития и важнейшие сферы деятельности: финансовую политику, медиапланирование, медиамаркетинг, бизнес-планирование. Пособие выявляет особенности проявления общеэкономических законов в индустрии СМИ, ее сегментах и отдельных компания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5240" marR="75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728720" y="677880"/>
            <a:ext cx="2664000" cy="37148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4968720" y="865080"/>
            <a:ext cx="2519640" cy="37432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287280" y="4751280"/>
            <a:ext cx="8567640" cy="17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1f497d"/>
                </a:solidFill>
                <a:latin typeface="Arial"/>
              </a:rPr>
              <a:t>Основные понят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826920" y="1989000"/>
            <a:ext cx="763272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0120" indent="-330120">
              <a:spcBef>
                <a:spcPts val="726"/>
              </a:spcBef>
              <a:buClr>
                <a:srgbClr val="1f497d"/>
              </a:buClr>
              <a:buSzPct val="70000"/>
              <a:buFont typeface="Wingdings" charset="2"/>
              <a:buChar char="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Медиа (англ. media)– различные виды данных (контента),а также средства по их  донесению до потребителя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0120" indent="-330120">
              <a:spcBef>
                <a:spcPts val="726"/>
              </a:spcBef>
              <a:buClr>
                <a:srgbClr val="1f497d"/>
              </a:buClr>
              <a:buSzPct val="70000"/>
              <a:buFont typeface="Wingdings" charset="2"/>
              <a:buChar char="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Контент – информационное наполнение сообщения (тексты, графика, мультимедиа и иное значимое наполнение сообщения)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792000" y="1440000"/>
            <a:ext cx="80647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диа  -  «агенты или каналы обмена, передачи и распространения информации» (первый аспект), а также как «физические формы их выражения — бумага, аудиокассета, магнитный или оптический диск» (второй аспект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«Словарь новых медиа, нового цифрового мира»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«Словарь медиа и коммуникаций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Медиа — прежде всего средство коммуникации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(М.Маклюэн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1f497d"/>
                </a:solidFill>
                <a:latin typeface="Arial"/>
              </a:rPr>
              <a:t>Основные понят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360360" y="2016000"/>
            <a:ext cx="482436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0120" indent="-330120">
              <a:spcBef>
                <a:spcPts val="726"/>
              </a:spcBef>
              <a:buClr>
                <a:srgbClr val="1f497d"/>
              </a:buClr>
              <a:buSzPct val="70000"/>
              <a:buFont typeface="Wingdings" charset="2"/>
              <a:buChar char="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Мультимедиа - взаимодействие визуальных и аудиоэффектов под управлением интерактивного программного обеспечения с использованием современных технических  и программных средств, объединяющих текст, звук, графику, фото, видео в одном цифровом представлении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5327640" y="2448000"/>
            <a:ext cx="3633840" cy="36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1f497d"/>
                </a:solidFill>
                <a:latin typeface="Arial"/>
              </a:rPr>
              <a:t>Основные понят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"/>
          <p:cNvSpPr/>
          <p:nvPr/>
        </p:nvSpPr>
        <p:spPr>
          <a:xfrm>
            <a:off x="611280" y="2303640"/>
            <a:ext cx="4573440" cy="40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0120" indent="-330120">
              <a:spcBef>
                <a:spcPts val="726"/>
              </a:spcBef>
              <a:buClr>
                <a:srgbClr val="1f497d"/>
              </a:buClr>
              <a:buSzPct val="70000"/>
              <a:buFont typeface="Wingdings" charset="2"/>
              <a:buChar char="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Трансмедиа - взаимодействие различных видов медиа, когда каждое из них представляет  лишь часть единого сюжет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0120" indent="-330120">
              <a:spcBef>
                <a:spcPts val="726"/>
              </a:spcBef>
              <a:tabLst>
                <a:tab algn="l" pos="0"/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5445000" y="2212920"/>
            <a:ext cx="3267360" cy="361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1f497d"/>
                </a:solidFill>
                <a:latin typeface="Arial"/>
              </a:rPr>
              <a:t>Основные понят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/>
          <p:nvPr/>
        </p:nvSpPr>
        <p:spPr>
          <a:xfrm>
            <a:off x="611280" y="1773360"/>
            <a:ext cx="7848360" cy="48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vida_31_proregular;Times New Ro"/>
                <a:ea typeface="vida_31_proregular;Times New Ro"/>
              </a:rPr>
              <a:t>“</a:t>
            </a:r>
            <a:r>
              <a:rPr b="0" i="1" lang="ru-RU" sz="3600" spc="-1" strike="noStrike">
                <a:solidFill>
                  <a:srgbClr val="000000"/>
                </a:solidFill>
                <a:latin typeface="vida_31_proregular;Times New Ro"/>
                <a:ea typeface="vida_31_proregular;Times New Ro"/>
              </a:rPr>
              <a:t>New media – это новый формат существования средств массовой информации, постоянно доступных на цифровых устройствах и подразумевающих активное участие пользователей в создании и распространении контента”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vida_31_proregular;Times New Ro"/>
                <a:ea typeface="vida_31_proregular;Times New Ro"/>
              </a:rPr>
              <a:t>Рассел Нойман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vida_31_proregular;Times New Ro"/>
                <a:ea typeface="vida_31_proregular;Times New Ro"/>
              </a:rPr>
              <a:t>Профессор Мичиганского университет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2T09:13:07Z</dcterms:created>
  <dc:creator>User</dc:creator>
  <dc:description/>
  <dc:language>en-US</dc:language>
  <cp:lastModifiedBy>User</cp:lastModifiedBy>
  <dcterms:modified xsi:type="dcterms:W3CDTF">2016-09-15T05:56:27Z</dcterms:modified>
  <cp:revision>33</cp:revision>
  <dc:subject/>
  <dc:title>Предмет и основные понятия логики</dc:title>
</cp:coreProperties>
</file>