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C9B1-3894-409B-B727-D542A4255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680" y="40525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44ED-F965-4124-BE0F-EF5EBF099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2920" y="40525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FD8D-B2B7-4EF8-B549-B6587F3D1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8240" y="19047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1680" y="40525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8240" y="40525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5160" y="40525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ED6B-417D-4964-A6E6-FAD13EE37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C423-F982-4277-AA19-DF12A872BE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282C-98CF-4C7F-AF0A-4CB548CB11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2527-A17E-424E-96A6-D27FCB4299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1E16-B296-4DC5-88BB-599726F8A1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82B7-CA0D-41FC-B932-7415E1B477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336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6682-88A9-4E18-9505-F8B475D5F4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C82B-C9E3-4F8E-9E1F-23097CD95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4AD2-1311-4DEB-BC8F-D652E32E4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2920" y="40525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EAA8-0F36-46B7-B7F5-463CA23C2E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F0F1-79BD-4C07-99C3-F6454CA85A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680" y="40525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F2A3-1E24-4163-BDD8-3785E9F7CE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2920" y="40525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3CCE4-1CF6-46F9-9DF7-8F778CBA32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88240" y="19047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1680" y="40525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88240" y="40525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5160" y="40525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94A9-B53C-4C49-BC2E-05C22C68A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8A42-A153-41F5-A218-57CDE66D0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35C6-9A8E-4942-B704-A393CB314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077D-4C8C-4F64-BD31-7794399BA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336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2B7A-AE37-457C-BC3B-33733D6AA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AC81-7B6A-473A-8C56-994BD7FE1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2920" y="40525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B88E-2707-4670-B7A0-BD1B1D4CB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2920" y="19047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CD87-F39A-41D4-9553-3BEFF15B0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2440" cy="1223280"/>
            <a:chOff x="152280" y="374760"/>
            <a:chExt cx="1522440" cy="12232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39040" y="374760"/>
              <a:ext cx="1303920" cy="1223280"/>
              <a:chOff x="239040" y="374760"/>
              <a:chExt cx="1303920" cy="12232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38680" y="378720"/>
                <a:ext cx="1299960" cy="121932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0880" cy="1221120"/>
              </a:xfrm>
              <a:custGeom>
                <a:avLst/>
                <a:gdLst>
                  <a:gd name="textAreaLeft" fmla="*/ 0 w 650880"/>
                  <a:gd name="textAreaRight" fmla="*/ 650880 w 650880"/>
                  <a:gd name="textAreaTop" fmla="*/ 0 h 1221120"/>
                  <a:gd name="textAreaBottom" fmla="*/ 1221480 h 122112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1760" cy="118440"/>
              </a:xfrm>
              <a:custGeom>
                <a:avLst/>
                <a:gdLst>
                  <a:gd name="textAreaLeft" fmla="*/ 0 w 1301760"/>
                  <a:gd name="textAreaRight" fmla="*/ 1301760 w 13017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2080" y="374760"/>
                <a:ext cx="649440" cy="122112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1221120"/>
                  <a:gd name="textAreaBottom" fmla="*/ 1221480 h 122112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19200" cy="1699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6552720" y="639900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B9538-6CEE-4E6E-BEE7-15D5C1D74BD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3040"/>
            <a:ext cx="4875120" cy="3486960"/>
            <a:chOff x="2133720" y="473040"/>
            <a:chExt cx="4875120" cy="348696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4240" cy="143676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1436760"/>
                <a:gd name="textAreaBottom" fmla="*/ 1437120 h 143676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4600" cy="143676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436760"/>
                <a:gd name="textAreaBottom" fmla="*/ 1437120 h 143676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3040"/>
              <a:ext cx="4174920" cy="3486960"/>
              <a:chOff x="2494080" y="473040"/>
              <a:chExt cx="4174920" cy="348696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440" y="477000"/>
                <a:ext cx="4173480" cy="348300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5840" cy="3484440"/>
              </a:xfrm>
              <a:custGeom>
                <a:avLst/>
                <a:gdLst>
                  <a:gd name="textAreaLeft" fmla="*/ 0 w 2085840"/>
                  <a:gd name="textAreaRight" fmla="*/ 2086200 w 2085840"/>
                  <a:gd name="textAreaTop" fmla="*/ 0 h 3484440"/>
                  <a:gd name="textAreaBottom" fmla="*/ 3484800 h 348444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4920" cy="340920"/>
              </a:xfrm>
              <a:custGeom>
                <a:avLst/>
                <a:gdLst>
                  <a:gd name="textAreaLeft" fmla="*/ 0 w 4174920"/>
                  <a:gd name="textAreaRight" fmla="*/ 4175280 w 417492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87640" cy="3484440"/>
              </a:xfrm>
              <a:custGeom>
                <a:avLst/>
                <a:gdLst>
                  <a:gd name="textAreaLeft" fmla="*/ 0 w 2087640"/>
                  <a:gd name="textAreaRight" fmla="*/ 2088000 w 2087640"/>
                  <a:gd name="textAreaTop" fmla="*/ 0 h 3484440"/>
                  <a:gd name="textAreaBottom" fmla="*/ 3484800 h 348444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68640" cy="48888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336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2"/>
          </p:nvPr>
        </p:nvSpPr>
        <p:spPr>
          <a:xfrm>
            <a:off x="6552720" y="-3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DB5E4-4720-4CD9-BBAD-AA94FDBA8DAA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3357720"/>
            <a:ext cx="7918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Cambri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Cambria"/>
              </a:rPr>
              <a:t>Технология имиджмейкинга в медиаотрасли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5840" y="1728720"/>
            <a:ext cx="81374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ждый из этапов направлен на достижение трех главных задач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остижение высокого уровня компетенции и эффективная работы с аудиторией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держание успешного имидж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становление эмоциональной связи с аудиторией.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564400" cy="64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38160" y="192240"/>
            <a:ext cx="82058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нешние PR – технологии включают:</a:t>
            </a:r>
            <a:br>
              <a:rPr sz="44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57160" y="1714680"/>
            <a:ext cx="8001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текущие мероприятия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 связям с аудиторией, главной целью которых является поддержание уже сформированного отношения потребителей(пользователей, читателей) к  СМИ/медиа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организацию коммуникационных /PR-кампаний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, которые состоят из комплекса взаимосвязанных PR-акций и мероприятий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85880" y="1785960"/>
            <a:ext cx="792936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PR-кампания направлена на достижение вполне конкретных результатов, способных сформировать или изменить отношение  аудитории к  СМИ/меди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PR-стратегии в первую очередь должны обеспечивать дифференцированную потребность в информации, развеивать различного рода предубеждени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медиа включает элементы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8760" y="1428840"/>
            <a:ext cx="842940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мисси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WOT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анализ ситуаци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цели и задачи издания,ТВ, программы и т.п.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принцип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методы и формы работ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типы аудиторий и целевые групп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базовые идеологем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оценка эффективности и контроль результатов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28760" y="1357200"/>
            <a:ext cx="8715240" cy="68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ольшое значение в программах внешней текущей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деятельности придается планированию отношений с другими СМИ и меди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Цели – увеличить эффективность посланий по каналам СМИ и новых медиа, уменьшить возможность искажения информац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ути достижения – установить взаимовыгодное партнерство и сотрудничество со СМИ  и новыми медиа через формы регулярной коммуникац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Основные этапы имиджирования медиа 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ое обеспечени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ициирование публикаций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спользование нетрадиционных форм (целевые утечки информации, опережение оппонентов в интерпретации событий, спланированные провокации и т.п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2040" y="1511280"/>
            <a:ext cx="75452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пециальные стратегии и методы применяются для установления отношений с властными структурами, бизнес-сектором и спонсорами, партнерам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к правило, партнеров подразделяют на три группы: тех, с которыми общие цели; тех, с которыми общие интересы; тех, с которыми общие проблемы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52360" y="1457280"/>
            <a:ext cx="723744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временные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технологии позволяют систематически и комбинировано использовать всю совокупность внутренних и внешних информационных связей, реализовать сильные стороны и элиминировать слабые.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61440" cy="547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84280" y="0"/>
            <a:ext cx="765972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ttp://conference.image-media.r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/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312920"/>
            <a:ext cx="8137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диа  заинтересованы в формировании положительного образа -  это способствует росту численности аудитории, привлечению рекламодателей, и как следствие, увеличению доходов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rcRect l="0" t="13892" r="5688" b="0"/>
          <a:stretch/>
        </p:blipFill>
        <p:spPr>
          <a:xfrm>
            <a:off x="360360" y="1116000"/>
            <a:ext cx="862344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61680" y="1299960"/>
            <a:ext cx="7770600" cy="53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1. СФОРМУЛИРОВАТЬ ЦЕЛ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имидже содержится определенное послание, которое будет различаться в зависимости от цел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 политика цель одна, у певца — другая, у фотомодели — третья. Кому-то необходимо достичь успеха в любви, кому-то — преуспеть в карьере, а кто-то желает добиться всего и сразу. Имиджмейкер определяет цель и формулирует главное послание: «Я умный и компетентный», «Я надежный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2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ПРЕДЕЛИТЬ ЦЕЛЕВУЮ АУДИТОРИ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слание, заключенное в имидже, адресуется не всем людям, а конкретной аудитории.  На этом этапе имиджмейкер анализирует ожидания целевой аудитории, на их основании ведется дальнейшая работ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3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СТАВИТЬ  СПИСОК  ОСНОВНЫХ ИМИДЖЕВЫХ ПАРАМЕТРОВ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алее формируется список качеств/свойств, которые необходимо демонстрировать:  надежность, честность,  профессионализм, ответственность  и т.д. Эти качества служат поставленной цели и хорошо считываются целевой аудиторией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61680" y="1625400"/>
            <a:ext cx="777060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4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РАВНИТЬ РЕАЛЬНЫЕ И ЖЕЛАЕМЫЕ КАЧЕ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этом этапе проводится анализ текущих внутренних и внешних качеств. Выделяют 3 группы параметров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. Имеющиеся качества, которые работают на имидж. Их нужно оставлять, а некоторые — усиливать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4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2.Характеристики поведения или внешности, которые мешают имиджу или разрушают его. От них лучше избавитьс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3. Качества, которые необходимы для создания имиджа, но у объекта имиджа их нет. Их нужно нарабатывать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61680" y="1625400"/>
            <a:ext cx="777060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5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БРАТЬ СРЕДСТВА САМОПРЕЗЕНТАЦИ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анный этап создания имиджа — самый сложный. Необходимо совместить обозначенные цели с объектом имиджа, учесть  особенности. В итоге формируются все параметры, необходимые для идеального имидж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браз газеты, телерадиопрограммы, информационного вестника, устойчивое представление, которое складывается у пользователя их информацией о периодическом издании - его характере, позиции и взглядах, особенностях содержания, оформления и других признаках и черта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мидж периодического издания формируется в течение достаточно длительного времени. Он играет огромную роль в позиционировании издания, в расширении и укреплении его целевой аудитории. Для формирования определенного имиджа газеты или программы важны все их характеристики, все сторо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61680" y="1726920"/>
            <a:ext cx="7770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пределенную роль играет и человеческий фактор - известность, популярность, своеобразный личный имидж журналистов, выступающих на страницах печатного издания или в эфир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дущий имидж издания, программы  закладывают уже в его модель, определяя систему его публикаций, тематические рубрики и жанровые особенност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19280" y="98280"/>
            <a:ext cx="7524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ким источникам информации вы доверяете?</a:t>
            </a:r>
            <a:br>
              <a:rPr sz="60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628640"/>
            <a:ext cx="82090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елевидение – 3.9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дио –  5.4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чатные издания –  3.9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тернет СМИ –  24.5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логи и социальные сети – 43.6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ой вариант в комментариях – 18.6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На сто опрошенных http://www.livejournal.com/poll/?id=194858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61680" y="104760"/>
            <a:ext cx="8481960" cy="74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Особенности формирования имиджа СМИ/меди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ровень СМИ и его качество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зиционировани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целенность на определенную аудиторию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йминг, фирменный стиль, слоган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зайн/визуальная составляющая влияет на его конкурентоспособность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вестные журналисты, репортеры, ведущие (медийные персоны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заимопереплетение и взаимозависимость персональных имиджей и корпоративного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68360" y="936720"/>
            <a:ext cx="734400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собое значение имеет имидж телевизионных СМИ, ставших важнейшим средством распространения информации и одним из популярнейших видов досуга самой разнообразной зрительской аудитор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59280" y="3870360"/>
            <a:ext cx="392436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1440000"/>
            <a:ext cx="83516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создания положительного образа СМИ осуществляется анализ существующего имиджа, который определяется путем анализа его восприяти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бычно для этого проводят интервью и тестирование, когда аудитории предлагается оценить конкретное СМИ или отдельные рубрики, программы и т.п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2040" cy="56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63640" y="1511280"/>
            <a:ext cx="7488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ждое СМИ  обладает собственным имиджем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условиях конкурентной борьбы, создание и поддержание положительного образа, и как следствие, сохранение и увеличение аудитории, просто необходимо.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0" t="7147" r="43688" b="0"/>
          <a:stretch/>
        </p:blipFill>
        <p:spPr>
          <a:xfrm>
            <a:off x="1368360" y="720720"/>
            <a:ext cx="74883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мид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3280" y="1477800"/>
            <a:ext cx="828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то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ационно-коммуникативная конструкция, призванная обеспечиват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нутреннюю идентификацию сотрудников, целей и задач объекта имиджа  (здесь и далее то же относится к персоне, проекту, региону и в принципе к любому объекту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птимальное представление объекта имиджа  во внешнем мир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мидж обеспечивае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040" y="1643040"/>
            <a:ext cx="8286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словия для повышения позитивной известности объекта имиджа  в среде реальных и потенциальных партнеров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можности для доминирующего узнавания и позитивного восприятия объекта имиджа  целевыми группами по сравнению с восприятием конкурент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миджмейкинг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1928880"/>
            <a:ext cx="8215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умма технологий создания образов реальности для манипулирования массовым сознание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вокупность технологий техник, элементов, операций,  предназначенных для реализации  задачи по формированию имиджа объекта (человека, предмета, явления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Создание имидж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ключает четыре основных этапа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здания фундамент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нешнего имидж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нутреннего имиджа 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осязаемого имиджа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2:47:41Z</dcterms:created>
  <dc:creator>admin</dc:creator>
  <dc:description/>
  <dc:language>en-US</dc:language>
  <cp:lastModifiedBy>User</cp:lastModifiedBy>
  <dcterms:modified xsi:type="dcterms:W3CDTF">2016-12-11T09:57:55Z</dcterms:modified>
  <cp:revision>35</cp:revision>
  <dc:subject/>
  <dc:title>Библиотеки СМИ</dc:title>
</cp:coreProperties>
</file>