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ADAF-3D47-4601-BB56-F0403134F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31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0480"/>
            <a:ext cx="82231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03E8-463A-4FD7-831D-61CDB935B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048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0640" y="402048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2F60-E3FC-47DD-AE7D-90D3656BE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7480" y="171900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17760" y="171900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048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7480" y="402048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17760" y="402048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B795-42BE-45C4-AF49-3E33C7EF5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0798-0FF4-43D3-A26F-04B158B895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2231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3185-0ABA-46FE-83AF-4C07D0839B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312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100E-7445-428B-9045-7FF33D1CDB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125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640" y="1719000"/>
            <a:ext cx="40125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0E4A-8C09-429F-955E-9BDF99923B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84C8-3654-427B-A20F-6EB0849431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3732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E22B-CC64-42FB-A572-F3C7E6A108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640" y="1719000"/>
            <a:ext cx="40125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048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616E-89DC-441E-8C54-487629FB2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2231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2F44-58F5-41A1-A580-B9C351313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125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64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0640" y="402048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D39C-43BE-4575-BD7C-0539A40A61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64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0480"/>
            <a:ext cx="82231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A25C-2E81-492F-9F6A-A1C611225A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31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0480"/>
            <a:ext cx="82231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4AC0-4CCB-4689-A96A-743733CFDB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048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0640" y="402048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1981-7847-4729-B898-CF1B7E493A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7480" y="171900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17760" y="171900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048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7480" y="402048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17760" y="4020480"/>
            <a:ext cx="264744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1C41-587D-4088-8253-4D256AAE8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312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E4B5-36F9-4485-B636-7C00D2A99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125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640" y="1719000"/>
            <a:ext cx="40125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440F-BA93-4BD8-AA22-8F50DE1E7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92AE-D219-4885-B053-ED91479EE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3732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32F9-48D9-49E8-AB58-DE3A668DC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640" y="1719000"/>
            <a:ext cx="40125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048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5CB6-565B-48F2-926F-7533308B2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125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0640" y="402048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B830-84E7-437B-9A11-9A658A23E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719000"/>
            <a:ext cx="40125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0480"/>
            <a:ext cx="82231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C163-695B-448B-9F18-11D55B111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000"/>
            <a:ext cx="822312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CB72B-D6BC-4072-B845-68BD7A9321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85880" cy="1289160"/>
            <a:chOff x="8153280" y="152280"/>
            <a:chExt cx="785880" cy="128916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4480" cy="1144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760" y="152280"/>
              <a:ext cx="112680" cy="1144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880" y="152280"/>
              <a:ext cx="108000" cy="1144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760"/>
              <a:ext cx="114480" cy="109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760" y="320760"/>
              <a:ext cx="112680" cy="109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880" y="320760"/>
              <a:ext cx="108000" cy="109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6560" y="320760"/>
              <a:ext cx="103320" cy="1094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880"/>
              <a:ext cx="114480" cy="1033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760" y="488880"/>
              <a:ext cx="112680" cy="1033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880" y="488880"/>
              <a:ext cx="108000" cy="103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6560" y="488880"/>
              <a:ext cx="103320" cy="103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040" y="488880"/>
              <a:ext cx="114120" cy="1033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560"/>
              <a:ext cx="114480" cy="1144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760" y="655560"/>
              <a:ext cx="112680" cy="1144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880" y="655560"/>
              <a:ext cx="108000" cy="1144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6560" y="655560"/>
              <a:ext cx="103320" cy="1144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4480" cy="1141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760" y="824040"/>
              <a:ext cx="112680" cy="1141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880" y="824040"/>
              <a:ext cx="108000" cy="1141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6560" y="824040"/>
              <a:ext cx="103320" cy="1141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040" y="824040"/>
              <a:ext cx="114120" cy="1141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4480" cy="1112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760" y="992160"/>
              <a:ext cx="112680" cy="1112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880" y="992160"/>
              <a:ext cx="108000" cy="1112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6560" y="992160"/>
              <a:ext cx="103320" cy="11124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60640"/>
              <a:ext cx="114480" cy="1062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760" y="1160640"/>
              <a:ext cx="112680" cy="1062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880" y="1160640"/>
              <a:ext cx="108000" cy="1062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6560" y="1160640"/>
              <a:ext cx="103320" cy="1062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760" y="1328760"/>
              <a:ext cx="112680" cy="1126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6560" y="1328760"/>
              <a:ext cx="103320" cy="1126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493040" y="2992320"/>
            <a:ext cx="1332000" cy="2183040"/>
            <a:chOff x="7493040" y="2992320"/>
            <a:chExt cx="1332000" cy="2183040"/>
          </a:xfrm>
        </p:grpSpPr>
        <p:sp>
          <p:nvSpPr>
            <p:cNvPr id="76" name=""/>
            <p:cNvSpPr/>
            <p:nvPr/>
          </p:nvSpPr>
          <p:spPr>
            <a:xfrm>
              <a:off x="7493040" y="2992320"/>
              <a:ext cx="195120" cy="1954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7080" y="2992320"/>
              <a:ext cx="195480" cy="1954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1480" y="2992320"/>
              <a:ext cx="195120" cy="1954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93040" y="3276720"/>
              <a:ext cx="195120" cy="1951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7080" y="3276720"/>
              <a:ext cx="195480" cy="1951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61480" y="3276720"/>
              <a:ext cx="195120" cy="1951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45520" y="3276720"/>
              <a:ext cx="195120" cy="1951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560760"/>
              <a:ext cx="195120" cy="1951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560760"/>
              <a:ext cx="195480" cy="1951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480" y="3560760"/>
              <a:ext cx="195120" cy="1951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520" y="3560760"/>
              <a:ext cx="195120" cy="1951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29560" y="3560760"/>
              <a:ext cx="195480" cy="1951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843360"/>
              <a:ext cx="195120" cy="1969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843360"/>
              <a:ext cx="195480" cy="1969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480" y="3843360"/>
              <a:ext cx="195120" cy="1969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520" y="3843360"/>
              <a:ext cx="195120" cy="1969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4127400"/>
              <a:ext cx="195120" cy="1969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4127400"/>
              <a:ext cx="195480" cy="1969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480" y="4127400"/>
              <a:ext cx="195120" cy="1969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520" y="4127400"/>
              <a:ext cx="195120" cy="1969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9560" y="4127400"/>
              <a:ext cx="195480" cy="1969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411800"/>
              <a:ext cx="195120" cy="1951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411800"/>
              <a:ext cx="195480" cy="1951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480" y="4411800"/>
              <a:ext cx="195120" cy="1951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520" y="4411800"/>
              <a:ext cx="195120" cy="1951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695840"/>
              <a:ext cx="195120" cy="1951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695840"/>
              <a:ext cx="195480" cy="1951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480" y="4695840"/>
              <a:ext cx="195120" cy="1951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520" y="4695840"/>
              <a:ext cx="195120" cy="1951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7080" y="4979880"/>
              <a:ext cx="195480" cy="1954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520" y="4979880"/>
              <a:ext cx="195120" cy="1954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37320" cy="12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000"/>
            <a:ext cx="822312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FBB02-EFC2-4F99-A2C6-9C7206BC42D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6080" y="46512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субъекты медиаотрас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4924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7960" indent="-507960">
              <a:spcBef>
                <a:spcPts val="799"/>
              </a:spcBef>
              <a:buClr>
                <a:srgbClr val="ccccff"/>
              </a:buClr>
              <a:buSzPct val="70000"/>
              <a:buFont typeface="Arial"/>
              <a:buAutoNum type="arabicPeriod"/>
              <a:tabLst>
                <a:tab algn="l" pos="50796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9176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нятие «медиарын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7960" indent="-507960">
              <a:spcBef>
                <a:spcPts val="799"/>
              </a:spcBef>
              <a:buClr>
                <a:srgbClr val="ccccff"/>
              </a:buClr>
              <a:buSzPct val="70000"/>
              <a:buFont typeface="Arial"/>
              <a:buAutoNum type="arabicPeriod"/>
              <a:tabLst>
                <a:tab algn="l" pos="50796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9176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ие медиахолдин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7960" indent="-507960" algn="r">
              <a:spcBef>
                <a:spcPts val="799"/>
              </a:spcBef>
              <a:tabLst>
                <a:tab algn="l" pos="0"/>
                <a:tab algn="l" pos="50796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9176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скроллы показывают, какой процент пришедших на материал пользователей долистали страницу до конца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нверсия в прочтения — процент пользователей, которые не просто доскроллили материал до конца, но и прочитали ег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 втором квартале 2018 года до конца материала доскралливало 51,3% десктоп и 57,4% мобильных пользователе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 сравнению с прошлым годом этот показатель снизился. На десктопе доскроллы снижаются четвертый квартал подряд. Процент прочтения материалов изменился в пределах погреш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76360" y="792000"/>
            <a:ext cx="8119800" cy="58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сктопными устройствами считаются компьютеры, ноутбуки и мобильные устройства с диагональю экрана больше 7 дюйм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вторы исследования отмечают, что  в России до сих пор не существует единой статистики по числу бумажных и цифровых СМ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 данным Роскомнадзора, всего в России насчитывается 25,6 тыс. онлайн-медиа. Однако на самом деле их больше, так как некоторые СМИ специально не регистрируются официально или регистрируются в других страна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87280" y="1079280"/>
            <a:ext cx="83995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72% населения России интернет выступает основным источником новостей и информации в целом, а 58% населения выбирают российские источники информ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у 52% российских медиа трафик в месяц не превышает одного миллиона просмо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орды по трафику ставят федеральные новостные СМИ, где среднее число просмотров достигает 109 млн в месяц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ло 66% всех читателей российских федеральных новостных изданий — мужчи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7280" y="1511280"/>
            <a:ext cx="8567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удитория российских федеральных новостных СМИ моложе, чем средние показатели по миру: в России средний возраст читателя — 36 лет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чти 60% аудитории российских медиа — миллениалы в возрасте от 20 до 37 лет. Большинство (54%) потребителей информации на отечественном рынке приходят на сайты СМИ со стационарных устройств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уть меньше половины (45%) аудитории СМИ дочитывают тексты до конца. Пользователи мобильных устройств лучше вовлекаются в чтение, чем пользователи стационарных устройств: доля пользователей, дочитавших материалы до конца, выше, чем на десктопе. Поэтому пользователи тратят больше времени на чтение на мобильных устройства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новным каналом трафика выступает поиск, на который приходится 30%. На втором месте — социальные сети (28%), за ними идут реферальный трафик (19%), прямой трафик (18%) и другие каналы (5%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еднее число просмотров для одного материала — 3,4 тыс., а среднее количество материалов для СМИ не превышает 1,2 тыс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280" y="789120"/>
            <a:ext cx="3036960" cy="4727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51280" y="395280"/>
            <a:ext cx="4572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 изд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  2015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изд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  Учебное пособие рассматривает общие теоретические вопросы классификации и индикации медиасистем, исторические этапы развития и формирования отечественной медиасистемы; характеризует правовое поле, в которой она функционирует. В учебном пособии рассматриваются различные сегменты медиасистемы России: печатная пресса, телевидение, радио, онлайн-СМИ, информационные агентства, киноиндустрия, реклама и связи с общественностью. Анализируются технологические, экономические, организационно-структурные и содержательные аспекты каждого сегмента. Особое внимание уделяется аудитории СМИ. Учебное пособие содержит большой объем статистического материала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Эксперты «Медиатора» отмечают падение виральности: пользователи всё меньше делятся прочитанными материал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 самыми дочитываемыми материалами становятся заметки про шоу-бизнес, политику и развлеч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60360" y="64764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ми вовлекающими выступают развлекательные СМИ, у которых «Медиатор» фиксируют самый высокий процент прочтений длинных и коротких материалов на всех типах устрой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ко самая большая категория медиаизданий в стране — тематические СМИ (48%), в которую входят отраслевые и нишевые издания, а также СМИ узкой тематики (спортивные медиа или издания для родителе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самая низкая виральность — у региональных тематических и развлекательных медиаизданий, у которых меньше всего перепубликаций в соцсети на один матери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03280" y="1079640"/>
            <a:ext cx="78786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лдинг - это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 структура коммерческих организаций, включающая в себя управляющую компанию и сеть мелких дочерних компаний, которые она контролирует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яющая компания владеет контрольным пакетом акций, а дочерние распределяют между собой оставшиеся ак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ервые холдинговые компании в России появились после принятия 3 июля 1991 года Закона РФ "О приватизации государственных и муниципальных предприятий в Российской Федерации" (ст.8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диахолдинг - компания, владеющая контрольным пакетом акций в других компаниях средств массовой информации с целью управления ими и контроля за их деятельностью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692280"/>
            <a:ext cx="86421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3000" algn="ctr">
              <a:spcBef>
                <a:spcPts val="7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ественное влияние на развитие медиахолдинга, рост доходов и его положение на рынке оказывают следующие тенден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300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е влияние государства на бизнес существующих субъектов медиарынка (в т.ч. и регионального законодательства и органов власт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3000">
              <a:spcBef>
                <a:spcPts val="7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80" y="1557360"/>
            <a:ext cx="8640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3360" indent="-60336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ход новых медиахолдингов и компаний на рын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ределения медиарынка и его отдельных секторов между крупными компаниями и медиахолдинг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есточение конкуренции на медиарын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0"/>
            <a:ext cx="8064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Угрозы в деятельности медиахолдин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700280"/>
            <a:ext cx="871380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6600" indent="-336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йствия государства и региональных властей для регулирования медиарынка, которые могут привести к ухудшению условий существования медиахолдинга на рынке (налоговые изменения, правовые ограничения и т.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кономический кризис (сегодня существует вероятность того, что нестабильная ситуация в Европейском союзе может оказать влияние и на Россию), который может снизить результаты экономической деятельности (например, снижение доходов от рекламы и т.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0920" y="1484280"/>
            <a:ext cx="87138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ятельности медиахолдингов существуют положительные тенденции, позволяющие при необходимости избежать основных угроз как в финансовой, так и в основной деятельности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логом этого является корпоративная структура медиахолдинга и финансы, значительное влияние масс медиа на политическом рынке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ccccff"/>
                </a:solidFill>
                <a:latin typeface="Arial"/>
              </a:rPr>
              <a:t>Медиахолдинги в Росс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787920" cy="4969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11640" y="466560"/>
            <a:ext cx="478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 изд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  2014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датель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  МедиаМир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изд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  Монография представляет собой комплексное историко-экономическое исследование процесса концентрации российских средств массовой информации в контексте общего развития страны и трансформации ее медиасистемы в первые два десятилетия постсоветского периода (1992 – 2012 гг.). В работе подробно рассматриваются процессы становления и функционирования крупнейших российских медиахолдингов, структуры их собственности, стратегии роста, формы задействованных капиталов, финансовая отчетность, а также общие черты и закономерности развития концентрации СМИ в России на общенациональном уровне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6000" y="1368360"/>
            <a:ext cx="8640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ccccff"/>
                </a:solidFill>
                <a:latin typeface="Arial"/>
              </a:rPr>
              <a:t>Газпром-Медиа Холдинг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844640"/>
            <a:ext cx="7993080" cy="68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6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а образования: 21 января 1998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телевидение, радио, пресса, кинопроизводство, реклама, кинопрокат, интернет. Один из крупнейших холдингов России и Евро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ое направление деятельности Холдинга - аккумулирование и развитие медийных активов. Основной принцип руководства активами - управление не контентом, а бизнесом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ccccff"/>
                </a:solidFill>
                <a:latin typeface="Arial"/>
              </a:rPr>
              <a:t>Газпром-Медиа Холдинг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557360"/>
            <a:ext cx="8496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ой принцип руководства активами - управление не контентом, а бизнес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каждый информационный продукт должен быть не просто качественным, но занимать собственную нишу. Именно поэтому все проекты Холдинга - информационные, аналитические, развлекательные - востребованы и отвечают запросам практически всего населения стран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11280" y="593640"/>
            <a:ext cx="738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В Газпром-Медиа Холдинг входят: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981000"/>
            <a:ext cx="8713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6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лекомпании НТВ, ТНТ, спутниковая телекомпания НТВ-ПЛЮ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диостанции Эхо Москвы, Первое популярное радио, NEXT, CИТИ-FM, Relax-FM, Детское ради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дательство Семь дней: журналы Итоги, 7 дней - Телепрограмма, Караван историй, Коллекция Каравана Историй; газета Трибуна; журнал-телегид Панорама T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нокомпания НТВ-Ки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нотеатры Октябрь, Кристалл-Палас (г.Моск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ет-портал RuTu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ОО "Газпром-Медиа" (продажа рекла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АО "Телебазис", ООО "Рекламная компания "СМС", ООО "КОМСТЭК" (управление и владение недвижимостью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6000" y="863280"/>
            <a:ext cx="8999280" cy="60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 «Газпром-Медиа Холдинг»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ходи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руппа  компаний «ПрофМедиа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сновное направление деятельности Холдинга - аккумулирование и развитие медийных активов. Основной принцип руководства активами - управление не контентом, а бизнесом. При этом каждый информационный продукт должен быть не просто качественным, но занимать собственную нишу. Именно поэтому все проекты Холдинга - информационные, аналитические, развлекательные - востребованы и отвечают запросам практически всего населения стран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24600" y="71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ccccff"/>
                </a:solidFill>
                <a:latin typeface="Arial"/>
              </a:rPr>
              <a:t>ЗАО «Национальная Медиа Группа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ыло создано в феврале 2008 г. путем объединения медийных активов ОАО «АБ «Россия», А.А. Мордашова, ОАО «Сургутнефтегаз» и страховой группы «Согаз» с целью повышения конкурентоспособности и более эффективного управл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31640" y="260280"/>
            <a:ext cx="5150160" cy="3268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592360" y="3854520"/>
            <a:ext cx="62643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циональная Медиа Групп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719360"/>
            <a:ext cx="82296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ин из крупнейших частных медиахолдингов России, объединяющий активы ключевых сегментов российского медиарынк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состав Холдинга вошли: телерадиокомпания «Петербург-Пятый канал» (72,4%), ОАО «Первый канал» (25%), телеканал РЕН ТВ (68%), газета «Известия» (73,2%) и радиостанция «Русская Служба Новостей» (100%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1341360"/>
            <a:ext cx="82184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марте 2014 года ЗАО «Национальная Медиа Группа» приобрела 50% уставного капитала ООО «Арт Пикчерс Вижн» (входит в ГК «Арт Пикчерс»), одного из ведущих в России производителей ТВ-фильмов и сериал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рамках Холдинга создан Общественный Cовет, в состав которого вошли видные российские деятели культуры, артисты, политики и представители бизнес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6985080" cy="46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814480" cy="3782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857320" cy="428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700360" y="2349360"/>
            <a:ext cx="31338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03280" y="431640"/>
            <a:ext cx="4535280" cy="3095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800360" y="4176720"/>
            <a:ext cx="5400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5397480" cy="4041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580000" y="4437000"/>
            <a:ext cx="32562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ccccff"/>
                </a:solidFill>
                <a:latin typeface="Arial"/>
              </a:rPr>
              <a:t>Интернет - ресурс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280" y="1293840"/>
            <a:ext cx="849636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public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ruj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rbcdaily.ru/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-316080"/>
            <a:ext cx="8001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Arial"/>
              </a:rPr>
              <a:t>Медиары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1628640"/>
            <a:ext cx="8064360" cy="62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ляет собой сложную систему, со своей структурой, иерархией отдельных элементов и их взаимосвяз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арынок - район охвата аудитории средствами массовой информации, принадлежащими той или иной комп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Arial"/>
              </a:rPr>
              <a:t>Особенности современного медиарынка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816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. Вытеснение печатных изда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2. Уход иностранцев с медиарынка.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 начале 2016 года начали работать поправки в Закон о средствах массовой информации, которые ограничивают иностранное участие в управлении российскими газетами, журналами, телекомпаниями и радиостанциям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3. Активизация медийного интернет-рынка интернет-меди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4. Медиарынок в социальных сетях (SM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5. На структуру медийного рынка оказывает влияние политик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следование: как устроен современный российский медиары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ервис аналитики внимания для медиа и контент-проектов «Медиатор» рассказал об основных тенденциях потребления на российском медиарынке в 2017—2018 года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20720" y="93672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Arial"/>
              </a:rPr>
              <a:t>Как изменилось вовлечение читателей российских медиа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итатель и посетитель — два разных типа пользователя. Первые последовательно изучают материал. Вторые его проскролливают. Или уходят со страницы, даже не добравшись до первого абзаца. Во втором квартале 2018 года так поступали 2,2% на декстопе и 4,7% пользователей на мобильных устройст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4:51:10Z</dcterms:created>
  <dc:creator>admin</dc:creator>
  <dc:description/>
  <dc:language>en-US</dc:language>
  <cp:lastModifiedBy>User</cp:lastModifiedBy>
  <dcterms:modified xsi:type="dcterms:W3CDTF">2016-09-28T17:51:11Z</dcterms:modified>
  <cp:revision>29</cp:revision>
  <dc:subject/>
  <dc:title>Слайд 1</dc:title>
</cp:coreProperties>
</file>