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71E0-BC2A-4874-8B05-B0B9E4F9B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B9D6-6703-45D8-AEAB-55CF4269F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42D8-63F1-4C32-AB45-76853A8CE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68B0-155C-4E18-8E52-ADDBF9927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A499-2D3C-4670-A687-EF0687836C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CF30-24FD-4352-B989-B91760AD4E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D26B-F353-44E1-9B7E-252DA00458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F662-F3D1-443D-A6F3-CE2F279B0B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7FA2-1ED2-4687-9CA5-A0DFBC5F6E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938E-8BBE-4EF7-A90C-4CDBDE93F0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EB8E-BAB5-49D9-9DF1-FD95547140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1F58-7593-4B62-94E7-A8414F25B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DBEA-C532-4C8F-96E5-23E298F65F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F83B-8F59-474B-94FE-D1C83AB20B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52A5-299A-4253-8511-FE83BD4631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B1BC9-F393-486C-B6CF-B9EC64C0F0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5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1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5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1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AD37-E3C2-489A-B5AD-E6912B0CCA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EE9C-0856-41E4-A69D-0A48A64A1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8EE8-4655-41C2-8EDB-574746E3E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1F05-74ED-4BFE-93B9-8D2C68B21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43DD-EF10-4AEF-8581-00D8F444A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7274-A5A0-47A1-9D77-7738AAC89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6F2A-1897-41EB-AD25-119052B7D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3700-51F1-42BE-B0B4-7AB5F365E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39320" cy="6850080"/>
            <a:chOff x="0" y="6480"/>
            <a:chExt cx="9139320" cy="685008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3360" cy="5013360"/>
            </a:xfrm>
            <a:custGeom>
              <a:avLst/>
              <a:gdLst>
                <a:gd name="textAreaLeft" fmla="*/ 0 w 8253360"/>
                <a:gd name="textAreaRight" fmla="*/ 8253720 w 82533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461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4160" cy="501336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461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39320" cy="6850080"/>
              <a:chOff x="0" y="6480"/>
              <a:chExt cx="9139320" cy="685008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7640" cy="11016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01600"/>
                  <a:gd name="textAreaBottom" fmla="*/ 1101600 h 110160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4617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7640" cy="4280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80040"/>
                  <a:gd name="textAreaBottom" fmla="*/ 4280040 h 428004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4617b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1480" cy="17640"/>
              </a:xfrm>
              <a:custGeom>
                <a:avLst/>
                <a:gdLst>
                  <a:gd name="textAreaLeft" fmla="*/ 0 w 7521480"/>
                  <a:gd name="textAreaRight" fmla="*/ 7521840 w 7521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4617b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9d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dd9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7640" cy="6649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dd9"/>
                  </a:gs>
                  <a:gs pos="50000">
                    <a:srgbClr val="e2d700"/>
                  </a:gs>
                  <a:gs pos="100000">
                    <a:srgbClr val="009d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5480" cy="1764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dd9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398520" cy="1764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9dd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3480" cy="1764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dd9"/>
                  </a:gs>
                  <a:gs pos="50000">
                    <a:srgbClr val="e2d700"/>
                  </a:gs>
                  <a:gs pos="100000">
                    <a:srgbClr val="009dd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261BE7-4761-48D9-BC7F-7AAF2030AA64}" type="slidenum">
              <a:rPr b="0" lang="ru-RU" sz="18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39320" cy="6850080"/>
            <a:chOff x="0" y="6480"/>
            <a:chExt cx="9139320" cy="685008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39320" cy="5013360"/>
              <a:chOff x="0" y="1843200"/>
              <a:chExt cx="9139320" cy="501336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3360" cy="5013360"/>
              </a:xfrm>
              <a:custGeom>
                <a:avLst/>
                <a:gdLst>
                  <a:gd name="textAreaLeft" fmla="*/ 0 w 8253360"/>
                  <a:gd name="textAreaRight" fmla="*/ 8253720 w 8253360"/>
                  <a:gd name="textAreaTop" fmla="*/ 0 h 5013360"/>
                  <a:gd name="textAreaBottom" fmla="*/ 5013720 h 501336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4617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4160" cy="5013360"/>
              </a:xfrm>
              <a:custGeom>
                <a:avLst/>
                <a:gdLst>
                  <a:gd name="textAreaLeft" fmla="*/ 0 w 884160"/>
                  <a:gd name="textAreaRight" fmla="*/ 884520 w 884160"/>
                  <a:gd name="textAreaTop" fmla="*/ 0 h 5013360"/>
                  <a:gd name="textAreaBottom" fmla="*/ 5013720 h 501336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4617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7640" cy="664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dd9"/>
                </a:gs>
                <a:gs pos="50000">
                  <a:srgbClr val="e2d700"/>
                </a:gs>
                <a:gs pos="100000">
                  <a:srgbClr val="009d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398520" cy="1764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5480" cy="176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dd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6720" cy="6850080"/>
              <a:chOff x="552600" y="6480"/>
              <a:chExt cx="8586720" cy="685008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7640" cy="11016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01600"/>
                  <a:gd name="textAreaBottom" fmla="*/ 1101600 h 110160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4617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7640" cy="4280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80040"/>
                  <a:gd name="textAreaBottom" fmla="*/ 4280040 h 428004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4617b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1480" cy="17640"/>
              </a:xfrm>
              <a:custGeom>
                <a:avLst/>
                <a:gdLst>
                  <a:gd name="textAreaLeft" fmla="*/ 0 w 7521480"/>
                  <a:gd name="textAreaRight" fmla="*/ 7521840 w 7521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4617b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9d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dd9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3480" cy="1764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dd9"/>
                  </a:gs>
                  <a:gs pos="50000">
                    <a:srgbClr val="e2d700"/>
                  </a:gs>
                  <a:gs pos="100000">
                    <a:srgbClr val="009dd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bf5f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2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18297-8A7A-4F3D-B319-40EEE318E4CF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Tahoma"/>
              </a:rPr>
              <a:t>Стратегическое планирование</a:t>
            </a: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Tahoma"/>
              </a:rPr>
              <a:t>в  медиаотрас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961320" cy="48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лизация стратегического плана предполагает создание организационной (корпоративной) культуры, позволяющей реализовать выбранные стратегии, формирование систем мотивации и организации труда, достижение определенной гибкости в организации и т.п., то есть использование всех инструментов стратегического управ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1052640"/>
            <a:ext cx="8497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 для грамотного осуществления стратегического планирования должны четко идентифицировать направления своей производственно-хозяйственной деятельности, в другой терминологии — стратегические хозяйственные единицы (СХЕ), стратегические единицы бизнеса (СЕБ) или центры бизне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333360"/>
            <a:ext cx="864072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Tahoma"/>
              </a:rPr>
              <a:t>Основные задачи разработки стратегического плана организации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916280"/>
            <a:ext cx="8064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ализ состояния, в котором находится организация в настоящее время (определение ключевых факторов окружающей среды, экономических, коммерческих, научно-технических и других тенденций развития организации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9280" y="333360"/>
            <a:ext cx="864072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Tahoma"/>
              </a:rPr>
              <a:t>Основные задачи разработки стратегического плана организации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1916280"/>
            <a:ext cx="80643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основных целей и задач развития организации с точки зрения эффективного использования капитала и обеспечения окупаемости инвестиц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стратегии мобилизации ресурсов организации для достижения основных целей и задач ее разви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920" y="1052640"/>
            <a:ext cx="878508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три задачи предопределяют логическую последовательность разработки стратегического плана организации в це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ачале осуществляется оценка текущего состояния бизнеса и перспектив его развит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лее формулируются миссия организации, ее стратегические цели и выбираются стратегии ее разви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PR-деятельность направлена на достижение стратегических целей комп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тегическое планирование в PR включает принятие решения по программным задачам и цел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Public Relations  – как функция управления, прежде всего, - инструмент достижения стратегических целей организации, которые затрагивают основные стороны деятельности организации и ориентированы на перспективу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1981080"/>
            <a:ext cx="754380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тегия PR - это всесторонний комплексный план, который предназначен для того, чтобы обеспечивать осуществление миссии по организации и достижению ц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1280" y="1844640"/>
            <a:ext cx="82087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стратегическим PR подразумевают такую информационно-коммуникационную  деятельность субъекта, результатом которой  является  создание инвестиционно привлекательного образа организ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ю стратегического PR является внедрение в модель целевой аудитории ключевых убежд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1916280"/>
            <a:ext cx="84294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амках стратегического PR необходимо определи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евую аудитор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ировать убеждение в аудит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, которую нужно достичь в результа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ходимые информационные пото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89000"/>
            <a:ext cx="842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Tahoma"/>
              </a:rPr>
              <a:t>Вопро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232236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spcBef>
                <a:spcPts val="799"/>
              </a:spcBef>
              <a:buClr>
                <a:srgbClr val="e2d700"/>
              </a:buClr>
              <a:buSzPct val="7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тегическое планирование: цели, задачи, сущ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799"/>
              </a:spcBef>
              <a:buClr>
                <a:srgbClr val="e2d700"/>
              </a:buClr>
              <a:buSzPct val="7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дель организации стратегического PR в медиаотрас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404640"/>
            <a:ext cx="82864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Tahoma"/>
              </a:rPr>
              <a:t>Модель организации стратегического P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916280"/>
            <a:ext cx="81421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проблемы P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граммирование и планиро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йств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ценка программы PR деятельности комп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620640"/>
            <a:ext cx="849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Tahoma"/>
              </a:rPr>
              <a:t>Возможные стратегии коммуникативного вли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916280"/>
            <a:ext cx="813564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ратегия демонстрации реальных де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— выражается в специальных мероприятиях и акциях, которые показывают практическую направленность деятельности организации на территории, обеспечивают отражение реальных результатов этой деятельности в сознании аудито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280" y="620640"/>
            <a:ext cx="849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Tahoma"/>
              </a:rPr>
              <a:t>Стратегия присутствия в информационном пространст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глобального, фокусированного) — выражается в специальных мероприятиях и акциях, которые обеспечивают освещение деятельности на территории на локальном и глобальном уровн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404640"/>
            <a:ext cx="8964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Tahoma"/>
              </a:rPr>
              <a:t>Стратегия личной заинтересова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86407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жается в специальных мероприятиях и акциях, которые обеспечивают меры личной заинтересованности каждого представителя клиентской аудитории на основании изучения нужд и потребностей, а также на основании разработки эффективных способов удовлетворения этих нужд и потреб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1773360"/>
            <a:ext cx="84963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каждой из аудиторий необходим  свой набор стратегий тактических прием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каждой группе клиентов выстроить специфическую систему взаимодействия, с указанием особенностей проводимых для нее мероприят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4360" y="1413000"/>
            <a:ext cx="81356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ать алгоритм последовательных шагов по реализации мероприятий на практике (от замысла до отчета), указать средства рекламы 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 включая типовую форму и примерную тематику публикаций, индекс доступности текстов для восприятия данной групп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тегическое планирование  - это процесс разработки и поддержания стратегического равновесия между целями и возможностями организации в изменяющихся рыноч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 стратегического планирования — определить наиболее перспективные направления деятельности организации, обеспечивающие ее рост и процвет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280" y="1197000"/>
            <a:ext cx="82818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тегическое планирование является составной частью более широкого понятия «стратегическое управлени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тегический план, характеризующий деятельность организаций, работающих в рыночных условиях, использует парадигму: «Завтрашний день необязательно будет лучше сегодняшнего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1341360"/>
            <a:ext cx="8353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 разработки стратегического плана  - анализ перспектив развития организации при определенных предположениях об изменении внешней среды, в которой она функциониру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амках стратегического планирования решаются вопросы о том, какие новые направления следует развивать, а какие из существующих ликвидиров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тегическое планирование направлено на адаптацию деятельности организации к постоянно меняющимся условиям внешней среды и на извлечение выгод из новых возмож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528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тегическое планирование не может дать полной, исчерпывающей картины будущего. Формируемая им картина будущего — это не детальное описание внешнего и внутреннего положения организации, а, скорее, его сценарное описание, носящее вероятностный харак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5280" y="981000"/>
            <a:ext cx="874872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! даже несовершенное описание будущего несравненно лучше, чем его отсутств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целом стратегическое планирование — это симбиоз интуиции и искусства высшего руководства организации по постановке и достижению стратегических целей, опирающийся на владение конкретными методами предпланового анализа и разработки стратегических пла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5:53:15Z</dcterms:created>
  <dc:creator>User</dc:creator>
  <dc:description/>
  <dc:language>en-US</dc:language>
  <cp:lastModifiedBy>User</cp:lastModifiedBy>
  <dcterms:modified xsi:type="dcterms:W3CDTF">2016-11-09T17:12:24Z</dcterms:modified>
  <cp:revision>13</cp:revision>
  <dc:subject/>
  <dc:title>Стратегическое планирование в КМ</dc:title>
</cp:coreProperties>
</file>