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7040880"/>
            <a:ext cx="360" cy="15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6F56-10AA-4494-905A-0D4170024F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5E525-6470-41C3-AE96-AF6962BBA0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176FA-A8D9-4900-9376-9132C6AB15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8AB09-8456-4ABE-AD65-F67FE68EA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A02F-87C0-468B-8C44-3B4C88DC01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8FCD-16A8-4E57-8439-60C71EE4A3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FF34-9FE1-4FC2-A2BA-B1F5251105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9DB17-36DC-447E-A868-E4F961A357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136DE-DFD7-4027-905B-06B53915A0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2B19-73C5-4B8D-9CAD-AD7C6C03E7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CF3FC-F224-42F0-A148-841A172059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AFBED-E7D1-4D88-8F92-B06C47645A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83CB6-D120-4544-BADE-95751869E9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CF633-896C-4E1A-81EA-1BD5B833E5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99DF-76D0-4673-BA5A-5DEEEF667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80102-6EAB-4AA4-BB6F-DA8CFEC951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88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05740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10142640"/>
                <a:tab algn="l" pos="10591920"/>
                <a:tab algn="l" pos="1104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планированный срок и с максимальной эффективностью. Во-вторых, к началу проведения PR и паблисити кампаний должны быть подготовлены все необходимые материалы о товарах, предоставляемых услугах, компаниях и их представителях. К материалам такого характера относятся технические описания, характеристики изделий, факты о деятельности компании, биографии сотрудников, фотографии объектов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5740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10142640"/>
                <a:tab algn="l" pos="10591920"/>
                <a:tab algn="l" pos="1104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66BE1-8505-437B-B5A3-6333095D826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2CF44-D9B2-4555-9C65-8CCC8C9A7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BBE9-4E16-48BA-A3FB-406E51C46D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A199B-3F56-4349-A3EA-EFE11D56F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700B6-DE9F-4926-892A-BB88B299F5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C3631-A4D9-4CAA-BE3D-78E4FD1876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3F2E3-00F8-438A-A24A-D94CAEAC75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29C23-12DD-40CA-BA2B-B5D842C8E1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772F4-9C5B-47C7-88C1-878B630310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52870-C2A1-4076-AFB2-450C13E75F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9E98-B218-4B99-87E3-8583327FE2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44B5-D0BB-4A17-83F2-101431D42D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3E5E9-D51C-4A25-BCD7-7B4A25E456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992D-2C98-4AD4-B8AC-023ED0EE04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65A7E-BE91-4590-9080-25957D50BF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5B65D-9739-466D-8EEE-10107FF2F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00CB5-1B0D-4C02-A372-A07C0AF183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3680-81FB-4048-B70E-008868C4E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765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EEE4-51E1-41F5-A626-ED24951F3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765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9765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2E9C-9F01-4F6F-8AA8-E2939B21F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9000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9000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765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9765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9765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6DB8-D228-4B0B-9C2B-0A04D7DB7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00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3EBC-98F0-4F31-8D65-866C53FE4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7A8F-E76E-4693-8696-961E840C5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9000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C2E2-069B-4C7D-AD63-918A2131B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B931-DD90-4CB9-AE94-7915893C8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1680" y="484200"/>
            <a:ext cx="63975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6713-26CF-439C-8789-E28A4E7FE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9000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765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CBA6-DEDD-4C6E-BD30-B2BA0BC4D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9765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DC22-3606-4F66-88E1-8877CF8AC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9000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765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2A55-3BF4-44F1-8059-127659095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1680" y="484200"/>
            <a:ext cx="6397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00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594360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3127320" y="594360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5960" y="592740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BB555-37E0-478B-A6F1-164485CBB63D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Constantia"/>
              </a:rPr>
              <a:t>Паблисити в медиаотрасл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3657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480" y="-453960"/>
            <a:ext cx="8915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чему известность становится одной из главных характеристик сегодня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060640"/>
            <a:ext cx="8686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технической базы». Глобальное информационное пространство уже реальность, и сейчас оно расширяется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Изменение материальной базы». На место материальных благ, которые совсем недавно ценились человечеством больше нематериальных, одним из центральных секторов экономики постиндустриального общества становится информац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520" y="-674640"/>
            <a:ext cx="88995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854360"/>
            <a:ext cx="844704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менение типа производства и распределения благ», общество стало массовым, людям приходится отказаться от собственных вкусов, с одной стороны и  с другой стороны происходит  демассификация, возможная благодаря кабельному и спутниковому телевидению, Интернету и новым полиграфическим возможностя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H="1" flipV="1">
            <a:off x="8551080" y="1981080"/>
            <a:ext cx="2682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981080"/>
            <a:ext cx="876312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собые свойства информации как товара». Информация становится массовым товаром, СМИ выгодно создавать как можно больше известных людей и зарабатывать на них. Примечательно, что ресурс для создания знаменитостей у СМИ огромный. Журналисты делают зрителя, слушателя или читателя зависимым от товара; используют распространенные стереотипы и мифы, чтобы управлять аудиториями и т.п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nodeType="clickEffect" fill="hold">
                      <p:stCondLst>
                        <p:cond delay="0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2520" y="155520"/>
            <a:ext cx="8234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менение общей и профессиональной структуры населения»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еняются стереотипы поведения людей, моральная оценка развлечений и безудержного потребления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формированием известности, популярности сталкиваются различные субъект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огут быть как организации, компании, предприятия, программы или проекты, товар, услуга, так и личности – бизнесмены, политики, артисты, общественные деят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700280"/>
            <a:ext cx="837396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ая цель паблиси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 формирование положительного общественного мнения среди целевых аудиторий о субъекте паблисити. Поэтому выбор средств к формированию паблисити обусловлен прежде всего особенностями аудитории, на которую она направле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0464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Средства формирования паблиси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133720"/>
            <a:ext cx="899172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-рекламные материал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кации в газетах и журналах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упления на телевидении и  радио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теле-радио программах или их созда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и другие специальные  мероприят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1b587c"/>
              </a:buClr>
              <a:buFont typeface="Wingdings" charset="2"/>
              <a:buChar char="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(создание и продвижение сайта; блогосфера; социальные сети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2296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Технологии паблиси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84464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dia rel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йминг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утационный менеджмен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R лич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иджмейкер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elebrity-marketing – вовлечение знаменитости в рекламную или PR-камп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2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1384200"/>
            <a:ext cx="83818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я мероприятия по паблиси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ть конечные цели, которые надо достигнуть, а такж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мые затрат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тинг паблисити позволит добиться необходимых результатов с минимальными затратами времени и средст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1751040"/>
            <a:ext cx="8305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тельной чертой формирования паблисити является использование бесплатных механизмов распространения информации и максимальная массовост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понятие паблисити не исключает и возможность проведения PR и рекламных кампа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Вопрос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86000"/>
            <a:ext cx="80773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1200" indent="-511200" algn="just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Arial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«паблисити», цели и требования к выбору  сред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1200" indent="-511200" algn="just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Arial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кампании по  паблиси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3020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Реализация кампании по паблиси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426960" y="22050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пании по паблисити начинаются с планирования и определения мероприятий на ближайший период и в перспектив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ционального использования времени и получения наибольшей эффективности паблисити необходимо придерживаться некоторых прави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nodeType="clickEffect" fill="hold">
                      <p:stCondLst>
                        <p:cond delay="0"/>
                      </p:stCondLst>
                      <p:childTnLst>
                        <p:par>
                          <p:cTn id="3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19162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рационально использовать временной ресур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точно и своевременно соблюдать пункты составленного плана. Это позволит выполнять все мероприятия  кампаний точно в запланированный срок и с максимальной эффективность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9162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к началу кампаний должны быть подготовлен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бходимые информационно-рекламные материалы. К материалам такого характера относятся  факты о деятельности , биографии, фотографии объектов и д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77336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рганизации и проведении кампаний паблисити учитываются естественны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ографические гран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пределах которых необходимо определение паблисити (государство, регион, город, район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вышения эффективности пиар и паблисити кампаний распространение информации должно проходить только среди целевой аудитории в пределах таких грани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44640"/>
            <a:ext cx="82296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координации информационных потоков и построения информационных связей (коммуникаций), зависит  успех как организации, так и отдельных персо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ающим оказывается стратегическое местоположение субъекта в системе возникающих связей и обмена информаци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989000"/>
            <a:ext cx="8305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утствие субъекта в информационном пространстве может быть одновременно и случайным и вполне контролируемым, встроенным в определенные закономерные процессы и наоборот подверженным непредсказуемым поворотам и изменения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916280"/>
            <a:ext cx="830556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нформационно зависимом мире нельзя рассчитывать на свободное существовани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остоянно и концептуально заниматься построением связей и взаимо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Font typeface="Wingdings" charset="2"/>
              <a:buChar char="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обственные информационные модели и подстраиваться под существующи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3020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Требования к кампаниям паблиси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требование – законченность и реалистичность предлагаемых действий. Это значит, что при планировании должны учитываться выделенные средства и возможности по распространению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dur="indefinite" nodeType="clickEffect" fill="hold">
                      <p:stCondLst>
                        <p:cond delay="0"/>
                      </p:stCondLst>
                      <p:childTnLst>
                        <p:par>
                          <p:cTn id="4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1268280"/>
            <a:ext cx="78483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е - все действия по формированию паблисити должны быть максимально простыми, понятными и выполнимы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2703600"/>
            <a:ext cx="5342040" cy="37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е – гибкость составленного плана кампании, которая позволяет в случае необходимости легко скорректировать все мероприят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следнее – это уникальность проводимой кампани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340080" cy="487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5337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1773360"/>
            <a:ext cx="830592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я этим правилам можно сформировать можно в короткие сроки сформировать широкую позитивную известность организации, личности, товара, или услуги среди целевых групп общественности 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ретаемая общественная оценка – это уже репутация, которая тесно связана с паблиси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040" y="587520"/>
            <a:ext cx="6399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аблисити в медиаотрас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900080"/>
            <a:ext cx="80452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100400" y="3095640"/>
            <a:ext cx="957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- гр. МС 21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224000"/>
            <a:ext cx="4319640" cy="374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30920" y="2735280"/>
            <a:ext cx="38541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-2052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Вывод</a:t>
            </a:r>
            <a:br>
              <a:rPr sz="45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евание доверия субъектом  со стороны общественности начинается с формирования позитивной извест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 положительную известность необходимо позаботиться о формировании  и поддержании имиджа, проводить репутационный ауди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nodeType="clickEffect" fill="hold">
                      <p:stCondLst>
                        <p:cond delay="0"/>
                      </p:stCondLst>
                      <p:childTnLst>
                        <p:par>
                          <p:cTn id="4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3289320" cy="480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4020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534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блиси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имеет  два наиболее распространенных знач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8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- это известность, популярность компании, продукта или бренд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8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е - это популяризация, пропаганда, продвижение товара или бренда на рынок путем воздействия на потреби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8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ми такого воздействия может быть привычная реклама на медианосителях: различные рекламные акции, сопровождаемые раздачей сувениров или большими скидками; публикация рекламных статей; спонсирование ТВ и радио программ, рубрик в прессе и др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160020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блиси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известность, популярность, публичная оценка  деятельности субъек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6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блиси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ила воздействия на целевую аудиторию с помощью рекламных материалов, публикаций в газетах и журналах, теле- радио передач, презентаций и корпоративных мероприя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557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сть является капит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вид капитала, в свою очередь, является «символическим», согласно  терминологии П. Бурдье. «Символический капитал- это доверие, это власть, представленная тем, кто получил достаточно признания, чтобы быть в состоянии внушать признание»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ями для получения символического капитала  являются, таким образом, узнавание и  призна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 же время символический капитал можно конвертировать в денежный, или наоборот: ярким примером является реклама товаров известными людьми, за которую они получают гонорар, а рекламные агентства - покупате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9680" y="1197000"/>
            <a:ext cx="899172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сть теоретически может получить всякий,  что делает ее (известность) как капитал более демократичной по сравнению со знатностью или научным призна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неравенство всё равно сохраняется. Получить известность гораздо легче тем, у кого есть другие виды капитала – деньги, общественное положение и т.д.: при желании его всегда можно конвертировать; кроме того, известность может передаваться и по наследству (например, Пэрис Хилтон или Ксения Собчак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6:24:58Z</dcterms:created>
  <dc:creator>Sergio</dc:creator>
  <dc:description/>
  <dc:language>en-US</dc:language>
  <cp:lastModifiedBy>МКС31</cp:lastModifiedBy>
  <dcterms:modified xsi:type="dcterms:W3CDTF">2019-11-05T06:48:5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