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3B005-109E-4978-97BF-C1B1DF6F69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8860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75DB0-99E4-4B87-8F7D-D45778E1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72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68D7E-6FB3-4EB4-AE4A-020F4002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AB9D0-D29B-49F2-97CE-37A017C03A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F0F70-A394-406F-B784-84D958C07D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11F5C-C64F-4E65-820F-AFD0802D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630A3-B5CD-49E0-B639-9BED671C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D8953-F834-4F71-8514-626468B6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FE5CF-343B-45E1-A334-96A455D9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42840"/>
            <a:ext cx="822492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710A4-585A-4B49-B455-854AEE39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79A94-9662-4CCD-9EBE-3E030213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A159-D360-467C-BAFB-EDC0C7AD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172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036B9-D8F9-49FF-B5C8-630DABA2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D4FDC-9B6D-47DB-AFF9-6E15C278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8860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A59EF-D087-4E5F-A731-AAD6B477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172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8C995-8AEC-4244-9365-F6884B07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7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8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7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8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3AA08-19AD-4296-8D3F-E00BB1FEF1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479E-6C24-4971-A4E0-1A3420CD25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25E9-9084-4A5A-BEBA-5DB2DE46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732D-3B6F-430C-9CEB-F2F50F63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D3FD-1594-45E0-B0B3-8960E74B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078C-7540-4B13-A1E0-E90242A4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F3A67-5B6A-4BDB-9750-D45F9D57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42840"/>
            <a:ext cx="822492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D9A0-D717-4BC5-8522-467B791B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689A-34B5-4EA6-8A10-F0767218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172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F7C4-08C7-4DB4-BA5F-9F90960A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15A6-4D6B-4F19-B314-99E15A6C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8860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C554-B9FF-453E-9D83-04B53F52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172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D1BE-9289-4037-A071-C6F2E6CE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7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18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7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18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3A81-B534-44E3-AFDD-674C121309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D4F55-5F49-492E-BBA0-62CA133E03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C1D4F-3446-4C69-BBD6-E0DB11F2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6CC9A-3275-4349-9B9E-79481685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998F7-E655-418E-81B4-5208E082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D1716-7EC6-4C44-AC2B-804F1150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00999-CF75-47CD-9896-15FEDAF4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42840"/>
            <a:ext cx="822492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40D85-8005-450A-A9C5-FA82B147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E214D-7373-4849-8835-0DD38CC6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172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F081A-A440-4462-B488-C4887FB3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C9683-C09E-4E7F-A75A-6C0DA886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418860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B8677-1920-44C8-8F51-2973A0FD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172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01554-88D4-45A4-AA6B-A1F2B555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7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18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7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18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8E711-F3A1-46F4-886C-317C5CC409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AC600D-24CD-48B7-B8DF-CA1CEDF58C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8FAB-A192-4E0D-940C-6EE447D4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CE628D-D227-4219-A80A-FCB78E63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5070A4-D778-47F7-8576-6CDC0DF6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F9B867-C98C-4BE9-82EB-FDB3BD2A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D4C331-EA44-433F-AF5A-B42173EB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42840"/>
            <a:ext cx="822492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371379-201C-4A49-8052-309B66B9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F1734E-BB42-4768-BCD9-E483DF5C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172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CCA299-5BE3-46AF-AB4B-7E4DE569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BA8223-1284-4CB4-833E-430FE7B6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18860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DE4A7F-417E-4009-BABD-B9CAC302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172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63F8B1-6DC9-4481-99D3-3655F4D1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42840"/>
            <a:ext cx="822492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F66D2-5EAE-44A8-9B9A-AA72459B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7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18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7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18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9F38C1-96FB-40DF-96D0-E730F78B27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C8034-19CC-4993-AB0F-6A76D60374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3107A-0B8C-48B3-9645-BC3089D3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82B2B-BB47-49E2-B856-F375D57F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558C6-0C3D-4AE5-A717-53D4A47A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14457-5D86-4A08-A840-2B11FBB4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42840"/>
            <a:ext cx="822492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AD91A-38F7-46C9-B2C5-DAAE2624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F20C0-7439-4158-918D-E84018D5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72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A06F4-8F57-411B-8F52-ED0FE167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5B09F-EC64-45A0-86A3-8990F401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7B096-50FC-45F4-8B04-E2A624EB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6840" y="418860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02714-16A4-48E1-97B6-178F9B99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72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7BB5C-9361-4CA0-8D40-D3554204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7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6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7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B5F14-88AD-4FE4-B4AE-1C233FFBBD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4C8D28-F353-4BE0-B3DF-5005E9339A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12830B-C759-4AEE-BADB-F65D2BD0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4A974C-FF45-4F37-90B8-BBDA3988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C4748-C354-4E2B-A1D6-CDA21429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D629B-975A-4B5D-9539-586E495C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42840"/>
            <a:ext cx="822492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7BE90-6EB8-44F4-9077-4B691C97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C7CBE6-7EE9-47E6-BD62-4FE530F0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72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41C47-2E3A-4145-AEE6-F8F3CEC8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172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91254-FE25-48DA-AA14-D00A6FC1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2BC98F-A9F1-4B2B-BFC0-088998B4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8860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73751-2A55-4733-93E8-1743F5B7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1720" y="418860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538FED-4C85-4002-800D-B09BC676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7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18840" y="177444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7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18840" y="4188600"/>
            <a:ext cx="264816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3DBD5-BDAC-4E59-BA30-8BE1D3AADE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774440"/>
            <a:ext cx="401364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8224920" cy="220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38A5-955C-4452-B0C4-3424BC22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2702" dir="478176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6360"/>
            <a:ext cx="21286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39880" y="6429240"/>
            <a:ext cx="5508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203680" y="6426360"/>
            <a:ext cx="7290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199E3-5FF4-44F0-A497-3C99561D1D1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2702" dir="478176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2868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Corbe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203680" y="6476760"/>
            <a:ext cx="729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ffffff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70C150F-2ECA-42BD-BB6A-32C037820460}" type="slidenum">
              <a:rPr b="0" lang="ru-RU" sz="1200" spc="-1" strike="noStrike">
                <a:solidFill>
                  <a:srgbClr val="ffffff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2702" dir="478176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2868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Corbe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8203680" y="6476760"/>
            <a:ext cx="729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ffffff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2127D58-52DE-41A7-8E9F-27BB37868DA4}" type="slidenum">
              <a:rPr b="0" lang="ru-RU" sz="1200" spc="-1" strike="noStrike">
                <a:solidFill>
                  <a:srgbClr val="ffffff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2868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Corbe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8"/>
          </p:nvPr>
        </p:nvSpPr>
        <p:spPr>
          <a:xfrm>
            <a:off x="8203680" y="6476760"/>
            <a:ext cx="729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ffffff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F3D1D21-145C-4327-A827-7004411AA935}" type="slidenum">
              <a:rPr b="0" lang="ru-RU" sz="1200" spc="-1" strike="noStrike">
                <a:solidFill>
                  <a:srgbClr val="ffffff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2702" dir="478176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2868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Corbe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0"/>
          </p:nvPr>
        </p:nvSpPr>
        <p:spPr>
          <a:xfrm>
            <a:off x="8203680" y="6476760"/>
            <a:ext cx="729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ffffff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35A36DB-106B-48A5-929F-81D3B5DA14BE}" type="slidenum">
              <a:rPr b="0" lang="ru-RU" sz="1200" spc="-1" strike="noStrike">
                <a:solidFill>
                  <a:srgbClr val="ffffff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2702" dir="478176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1"/>
          </p:nvPr>
        </p:nvSpPr>
        <p:spPr>
          <a:xfrm>
            <a:off x="164880" y="1135080"/>
            <a:ext cx="25174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Corbe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35160" y="1141560"/>
            <a:ext cx="51944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2"/>
          </p:nvPr>
        </p:nvSpPr>
        <p:spPr>
          <a:xfrm>
            <a:off x="8339040" y="1135080"/>
            <a:ext cx="72864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ffffff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963A90B-99A8-4455-8BB3-ADE09D0F8504}" type="slidenum">
              <a:rPr b="0" lang="ru-RU" sz="1200" spc="-1" strike="noStrike">
                <a:solidFill>
                  <a:srgbClr val="ffffff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2702" dir="5878176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42840"/>
            <a:ext cx="8224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774440"/>
            <a:ext cx="8224920" cy="4621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2868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Corbe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3988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4"/>
          </p:nvPr>
        </p:nvSpPr>
        <p:spPr>
          <a:xfrm>
            <a:off x="8203680" y="6476760"/>
            <a:ext cx="729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ffffff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1AF5DF7-7313-4BC1-A4FF-581974CA5C4E}" type="slidenum">
              <a:rPr b="0" lang="ru-RU" sz="1200" spc="-1" strike="noStrike">
                <a:solidFill>
                  <a:srgbClr val="ffffff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396720" y="1127160"/>
            <a:ext cx="8132760" cy="4672080"/>
            <a:chOff x="396720" y="1127160"/>
            <a:chExt cx="8132760" cy="4672080"/>
          </a:xfrm>
        </p:grpSpPr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396720" y="1127160"/>
              <a:ext cx="8132760" cy="467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396720" y="1127160"/>
              <a:ext cx="8132760" cy="46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0920" y="1628640"/>
            <a:ext cx="8713800" cy="50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tIns="91440" anchor="t">
            <a:noAutofit/>
          </a:bodyPr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Отсутствие комплексного научно-теоретического подхода к пониманию стратегии связей с общественностью - как мышления и инструментария, процесса и понятия, - не могло не сказаться на продуцируемых теоретиками и практиками концепциях и общем уровне осмысления реалий СО как социального института и сферы деятельности как в мире, так и в Ро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79280" y="1557360"/>
            <a:ext cx="864072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tIns="91440" anchor="t">
            <a:noAutofit/>
          </a:bodyPr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  <a:ea typeface="Microsoft YaHei"/>
              </a:rPr>
              <a:t>Такая ситуация обусловлена прикладным характером связей с общественностью, молодостью индустрии, в России,  а также отсутствием общей стратегии экономического и социального развития, гражданского общества, социального заказа на профессиональное сопровождение формирования равноправных коллаборативных (совместных) коммуникаций в социуме, сформировать которые возможно с помощью такой коммуникативной технологии как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  <a:ea typeface="Microsoft YaHei"/>
              </a:rPr>
              <a:t>PR</a:t>
            </a:r>
            <a:r>
              <a:rPr b="0" i="1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- камп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tIns="91440" anchor="t">
            <a:noAutofit/>
          </a:bodyPr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При принятии решений по провед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РR –кампаний важно правильно провести анализ, вычленить насущную, актуальную на данный момент  проблему организа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Возможно, она не осознается как главная, стратегическая, но без ее решения не обойт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457200" y="158760"/>
            <a:ext cx="8224920" cy="1244520"/>
            <a:chOff x="457200" y="158760"/>
            <a:chExt cx="8224920" cy="1244520"/>
          </a:xfrm>
        </p:grpSpPr>
        <p:pic>
          <p:nvPicPr>
            <p:cNvPr id="321" name="" descr=""/>
            <p:cNvPicPr/>
            <p:nvPr/>
          </p:nvPicPr>
          <p:blipFill>
            <a:blip r:embed="rId2"/>
            <a:stretch/>
          </p:blipFill>
          <p:spPr>
            <a:xfrm>
              <a:off x="457200" y="158760"/>
              <a:ext cx="822492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57200" y="158760"/>
              <a:ext cx="822492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0" y="1484280"/>
            <a:ext cx="914400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tIns="91440" anchor="t">
            <a:noAutofit/>
          </a:bodyPr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РR -кампания – это целенаправленная, системно организованная и завершенная совокупность РR -операций и обеспечивающих их мероприятий, объединенных общим стратегическим замыслом, направленная на решение конкретной проблемы организации и осуществляемая на определенном этапе деятельности организа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РR-кампания обязательно должна иметь конкретный  повод и конкретный результ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457200" y="158760"/>
            <a:ext cx="8224920" cy="1244520"/>
            <a:chOff x="457200" y="158760"/>
            <a:chExt cx="8224920" cy="1244520"/>
          </a:xfrm>
        </p:grpSpPr>
        <p:pic>
          <p:nvPicPr>
            <p:cNvPr id="325" name="" descr=""/>
            <p:cNvPicPr/>
            <p:nvPr/>
          </p:nvPicPr>
          <p:blipFill>
            <a:blip r:embed="rId2"/>
            <a:stretch/>
          </p:blipFill>
          <p:spPr>
            <a:xfrm>
              <a:off x="457200" y="158760"/>
              <a:ext cx="822492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457200" y="158760"/>
              <a:ext cx="822492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57200" y="1844640"/>
            <a:ext cx="800244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tIns="91440" anchor="t">
            <a:noAutofit/>
          </a:bodyPr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определение базовых сегментов потенциальной аудитор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построение программ коммуникации с каждым из сег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57200" y="1773360"/>
            <a:ext cx="829152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tIns="91440" anchor="t">
            <a:noAutofit/>
          </a:bodyPr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PR-кампании, являются  составляющей коммуникационной деятельности субъектов медиаотрас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Она осуществляется для достижения целей и решения актуальных задач, стоящих перед субъектами отрас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tIns="91440" anchor="t">
            <a:noAutofit/>
          </a:bodyPr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Учитывая специфику отрасли в которой реализуются PR-кампании, применительно к медиаотрасли можно говорить об организации и проведении информационных кампаний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Планирование кампании: соответствие целей индивидуальным затратам и полученной поль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457200" y="158760"/>
            <a:ext cx="8224920" cy="1244520"/>
            <a:chOff x="457200" y="158760"/>
            <a:chExt cx="8224920" cy="124452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457200" y="158760"/>
              <a:ext cx="822492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457200" y="158760"/>
              <a:ext cx="822492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24000" y="1628640"/>
            <a:ext cx="8496000" cy="50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tIns="91440" anchor="t">
            <a:noAutofit/>
          </a:bodyPr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цели информационной кампании не должны быть завышенным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необходимо тщательно продумать критерии успешности кампании (например, можно ли считать кампанию успешной, если аудитории понравилось сообщение или если последовали изменения в поведении, позициях или установках на короткий или на длительный период времени?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457200" y="158760"/>
            <a:ext cx="8224920" cy="1244520"/>
            <a:chOff x="457200" y="158760"/>
            <a:chExt cx="8224920" cy="1244520"/>
          </a:xfrm>
        </p:grpSpPr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457200" y="158760"/>
              <a:ext cx="822492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457200" y="158760"/>
              <a:ext cx="822492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tIns="91440" anchor="t">
            <a:noAutofit/>
          </a:bodyPr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значение отдельных компонентов может подрывать общую концепцию кампании (например, аудитория может узнавать медведя, но не знать, для чего он изображен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457200" y="158760"/>
            <a:ext cx="8224920" cy="1244520"/>
            <a:chOff x="457200" y="158760"/>
            <a:chExt cx="8224920" cy="124452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457200" y="158760"/>
              <a:ext cx="822492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457200" y="158760"/>
              <a:ext cx="822492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457200" y="1774800"/>
            <a:ext cx="822960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tIns="91440" anchor="t">
            <a:noAutofit/>
          </a:bodyPr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различные компоненты (иногда отрицательные) могут воздействовать друг на друга положительным образом (например, люди могут верить источнику сообщения меньше, если они осознают, что их пытаются убедить делать что-либо; однако это означает также, что благодаря таким сообщениям люди становятся более осведомленными в той или иной обла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457200" y="158760"/>
            <a:ext cx="8224920" cy="1244520"/>
            <a:chOff x="457200" y="158760"/>
            <a:chExt cx="8224920" cy="1244520"/>
          </a:xfrm>
        </p:grpSpPr>
        <p:pic>
          <p:nvPicPr>
            <p:cNvPr id="307" name="" descr=""/>
            <p:cNvPicPr/>
            <p:nvPr/>
          </p:nvPicPr>
          <p:blipFill>
            <a:blip r:embed="rId2"/>
            <a:stretch/>
          </p:blipFill>
          <p:spPr>
            <a:xfrm>
              <a:off x="457200" y="158760"/>
              <a:ext cx="822492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457200" y="158760"/>
              <a:ext cx="822492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tIns="91440" anchor="t">
            <a:noAutofit/>
          </a:bodyPr>
          <a:p>
            <a:pPr marL="627120" indent="-514440">
              <a:lnSpc>
                <a:spcPct val="100000"/>
              </a:lnSpc>
              <a:buClr>
                <a:srgbClr val="b83d68"/>
              </a:buClr>
              <a:buSzPct val="80000"/>
              <a:buFont typeface="Corbel"/>
              <a:buAutoNum type="arabicPeriod"/>
              <a:tabLst>
                <a:tab algn="l" pos="6271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Стратегия в связях с общественностью: общие принцип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27120" indent="-514440">
              <a:lnSpc>
                <a:spcPct val="100000"/>
              </a:lnSpc>
              <a:buClr>
                <a:srgbClr val="b83d68"/>
              </a:buClr>
              <a:buSzPct val="80000"/>
              <a:buFont typeface="Corbel"/>
              <a:buAutoNum type="arabicPeriod"/>
              <a:tabLst>
                <a:tab algn="l" pos="6271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PR – кампания  в медиаотрасли особенности организации и провед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27120" indent="-514440">
              <a:lnSpc>
                <a:spcPct val="100000"/>
              </a:lnSpc>
              <a:tabLst>
                <a:tab algn="l" pos="0"/>
                <a:tab algn="l" pos="6271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61056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tIns="91440" anchor="t">
            <a:noAutofit/>
          </a:bodyPr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В целом, методика организации и проведения кампаний по связям с общественностью  в различных сферах схожа, но цели, задачи, которые необходимо решить для их достижения  различаю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tabLst>
                <a:tab algn="l" pos="0"/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24000" y="1628640"/>
            <a:ext cx="836280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tIns="91440" anchor="t">
            <a:noAutofit/>
          </a:bodyPr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  <a:ea typeface="Microsoft YaHei"/>
              </a:rPr>
              <a:t>Понимание необходимости стратегических подходов, создание стратегий, принятие решений, исходя из оптимальной цели, отличает развитые страны, индустрии, социальные институты, которые самостоятельно планируют и формируют собственное будущее в быстро меняющемся мире (например, стратегия развития инноваций в ЕС до 2020 года, дорожные карты отраслей и т.д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tIns="91440" anchor="t">
            <a:noAutofit/>
          </a:bodyPr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Стратегия в теории и практике связей с общественностью российскими и зарубежными учеными ранее системно не рассматривалась, отдельные работы были посвящены прагматическому рассмотрению стратегии при формировании кампании СО с точки зрения менеджмента, использования отдельных инструментов, например меди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50920" y="1484280"/>
            <a:ext cx="871380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tIns="91440" anchor="t">
            <a:noAutofit/>
          </a:bodyPr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Стратегия общественных связей отличается тем, что ее цели направлены на создание положительного образа субъекта стратегических действ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Стратегия в деятельности по связям с общественностью сведена к анализу внешнего окружения, расчету рисков, конкурентного профиля организации, SWOT-анализу, определению первоначального имиджа орган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50920" y="1773360"/>
            <a:ext cx="87850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tIns="91440" anchor="t">
            <a:noAutofit/>
          </a:bodyPr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Классификация стратегий СО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(принцип типологизации - по состоянию внешнего окружения): конфликтные, конкурентные, кризисные (внутренний кризис), формирования бренда, развития, диверсификации, безопасности, немедленного реагирования, проникновения, удержания, позиционирования, полной "раскрутки", ими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1628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tIns="91440" anchor="t">
            <a:noAutofit/>
          </a:bodyPr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Стратегия в связях с общественностью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1) генеральная идея, концепция целенаправленной деятельности определенного социального актора (субъекта), которая охватывает длительный период време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2) способ достижения главной перспективной цели социального субъ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79280" y="155736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tIns="91440" anchor="t">
            <a:noAutofit/>
          </a:bodyPr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NB! Стратегическая деятельность связей с общественностью носит ценностный характер, строится на этических принципах и направлена на гармонизацию отношений в социу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Стратегия - инструмент, концептуального плана деятельности в долгосрочной перспективе в виде документа, фиксирующего и регламентирующего имеющиеся стратегические интен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tIns="91440" anchor="t">
            <a:noAutofit/>
          </a:bodyPr>
          <a:p>
            <a:pPr marL="433440" indent="-317520">
              <a:lnSpc>
                <a:spcPct val="10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4334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  <a:ea typeface="Microsoft YaHei"/>
              </a:rPr>
              <a:t>Исследование и описание стратегии требует первоначального обозначения реалий и перспектив корпоративной деятельности как таковой, поскольку практическая деятельность организаций есть частный случай реализации их стратег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07:52:55Z</dcterms:created>
  <dc:creator>Лариса</dc:creator>
  <dc:description/>
  <dc:language>en-US</dc:language>
  <cp:lastModifiedBy>Кафедра</cp:lastModifiedBy>
  <dcterms:modified xsi:type="dcterms:W3CDTF">2017-11-21T06:52:22Z</dcterms:modified>
  <cp:revision>35</cp:revision>
  <dc:subject/>
  <dc:title>Коммуникационный  менеджмент в государственном управлении</dc:title>
</cp:coreProperties>
</file>