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2EA4-6FEA-4DED-864A-DDA357251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680" y="4052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99F8-54D0-4586-92C0-502CF9137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2200" y="190476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1680" y="405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2200" y="405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80EF-C9E4-48C0-B0C5-B9DE032E5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87880" y="190476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4440" y="190476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1680" y="4052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87880" y="4052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4440" y="4052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0DD2-E779-4C28-8D76-1A404A076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A5C0-3661-4CF3-A9C1-94685B4935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E18B-77E8-4B14-93FD-A35752CAA4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5C57-ECD3-4A2A-B1FB-2DE979A73D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200" y="190476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9366-145C-411A-A1AA-4C0BFFC1E1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B165-3E47-46DA-A2E7-C8AF189C14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156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F523-85DC-4C4F-B4A6-8FCDC1BDB4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2200" y="190476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405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D0B3-93E5-47F8-8F1E-0C476AD83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7C8E-EACB-4A6B-9F11-D1AED5BFC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2200" y="190476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2200" y="405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8B965-7580-48EF-8046-84768DF47F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2200" y="190476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1680" y="4052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0307-7718-44C0-A334-9237A165BD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680" y="4052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272F-4D37-49DE-9F6B-CBD70CB43A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2200" y="190476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1680" y="405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2200" y="405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B28C-E8FE-4D24-AC4B-C4A93B3618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87880" y="190476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4440" y="190476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1680" y="4052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87880" y="4052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4440" y="4052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845B-F43A-4FD8-AAC7-E18A3313DB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A385-70DE-440C-8054-768874DFE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200" y="190476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612B-D532-43CA-8F3F-3711E1E0C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A308-64D7-4A31-8B18-F7B9E0C54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156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D5D1-0B8A-4573-8572-19A7C5DAE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200" y="190476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680" y="405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5B69-20FC-41DD-9B37-102EEC811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2200" y="190476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2200" y="405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7F04-AC22-423D-BDE2-F2C508557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2200" y="190476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680" y="4052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8BB2-25D6-413B-A5D6-DAFE303DA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1000" cy="1221840"/>
            <a:chOff x="152280" y="374760"/>
            <a:chExt cx="1521000" cy="122184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1840" cy="50148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1840" cy="50148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39040" y="374760"/>
              <a:ext cx="1302480" cy="1221840"/>
              <a:chOff x="239040" y="374760"/>
              <a:chExt cx="1302480" cy="122184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38680" y="380520"/>
                <a:ext cx="1298520" cy="12160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49440" cy="121716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1217160"/>
                  <a:gd name="textAreaBottom" fmla="*/ 1217160 h 121716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0320" cy="117000"/>
              </a:xfrm>
              <a:custGeom>
                <a:avLst/>
                <a:gdLst>
                  <a:gd name="textAreaLeft" fmla="*/ 0 w 1300320"/>
                  <a:gd name="textAreaRight" fmla="*/ 1300680 w 130032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2080" y="374760"/>
                <a:ext cx="647640" cy="121716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1217160"/>
                  <a:gd name="textAreaBottom" fmla="*/ 1217160 h 121716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17760" cy="16848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6552720" y="639936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CD6D0-8DA3-4A2B-8F8E-19A62F5B2A2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3040"/>
            <a:ext cx="4873680" cy="3485880"/>
            <a:chOff x="2133720" y="473040"/>
            <a:chExt cx="4873680" cy="34858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2800" cy="14349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1434960"/>
                <a:gd name="textAreaBottom" fmla="*/ 1435320 h 143496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3160" cy="1434960"/>
            </a:xfrm>
            <a:custGeom>
              <a:avLst/>
              <a:gdLst>
                <a:gd name="textAreaLeft" fmla="*/ 0 w 1613160"/>
                <a:gd name="textAreaRight" fmla="*/ 1613520 w 1613160"/>
                <a:gd name="textAreaTop" fmla="*/ 0 h 1434960"/>
                <a:gd name="textAreaBottom" fmla="*/ 1435320 h 143496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3040"/>
              <a:ext cx="4173480" cy="3485880"/>
              <a:chOff x="2494080" y="473040"/>
              <a:chExt cx="4173480" cy="34858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440" y="477360"/>
                <a:ext cx="4172040" cy="34815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4400" cy="3483000"/>
              </a:xfrm>
              <a:custGeom>
                <a:avLst/>
                <a:gdLst>
                  <a:gd name="textAreaLeft" fmla="*/ 0 w 2084400"/>
                  <a:gd name="textAreaRight" fmla="*/ 2084760 w 2084400"/>
                  <a:gd name="textAreaTop" fmla="*/ 0 h 3483000"/>
                  <a:gd name="textAreaBottom" fmla="*/ 3483360 h 348300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3480" cy="339840"/>
              </a:xfrm>
              <a:custGeom>
                <a:avLst/>
                <a:gdLst>
                  <a:gd name="textAreaLeft" fmla="*/ 0 w 4173480"/>
                  <a:gd name="textAreaRight" fmla="*/ 4173840 w 4173480"/>
                  <a:gd name="textAreaTop" fmla="*/ 0 h 339840"/>
                  <a:gd name="textAreaBottom" fmla="*/ 339840 h 33984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86200" cy="3483000"/>
              </a:xfrm>
              <a:custGeom>
                <a:avLst/>
                <a:gdLst>
                  <a:gd name="textAreaLeft" fmla="*/ 0 w 2086200"/>
                  <a:gd name="textAreaRight" fmla="*/ 2086200 w 2086200"/>
                  <a:gd name="textAreaTop" fmla="*/ 0 h 3483000"/>
                  <a:gd name="textAreaBottom" fmla="*/ 3483360 h 348300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67200" cy="48744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15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2"/>
          </p:nvPr>
        </p:nvSpPr>
        <p:spPr>
          <a:xfrm>
            <a:off x="6552720" y="-360"/>
            <a:ext cx="1900440" cy="4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8C116-CE38-4ACC-82C8-C5157534E7A0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3357720"/>
            <a:ext cx="7918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Cambria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Cambria"/>
              </a:rPr>
              <a:t>Технология имиджмейкинга в медиаотрасли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38160" y="192240"/>
            <a:ext cx="820584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нешние PR – технологии включают:</a:t>
            </a:r>
            <a:br>
              <a:rPr sz="44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7160" y="1714680"/>
            <a:ext cx="8001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текущие мероприятия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 связям с аудиторией, главной целью которых является поддержание уже сформированного отношения потребителей(пользователей, читателей) к  СМИ/медиа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организацию коммуникационных /PR-кампаний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, которые состоят из комплекса взаимосвязанных PR-акций и мероприятий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85880" y="1785960"/>
            <a:ext cx="792936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PR-кампания направлена на достижение вполне конкретных результатов, способных сформировать или изменить отношение  аудитории к  СМИ/меди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PR-стратегии в первую очередь должны обеспечивать дифференцированную потребность в информации, развеивать различного рода предубеждения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медиа включает элементы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8760" y="1428840"/>
            <a:ext cx="842940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мисси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WOT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анализ ситуации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цели и задачи издания,ТВ, программы и т.п.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принцип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методы и формы работ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типы аудиторий и целевые групп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базовые идеологем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оценка эффективности и контроль результатов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28760" y="1357200"/>
            <a:ext cx="8715240" cy="68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ольшое значение в программах внешней текущей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деятельности придается планированию отношений с другими СМИ и меди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Цели – увеличить эффективность посланий по каналам СМИ и новых медиа, уменьшить возможность искажения информац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ути достижения – установить взаимовыгодное партнерство и сотрудничество со СМИ  и новыми медиа через формы регулярной коммуникац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Основные этапы имиджирования медиа :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формационное обеспечение в традиционных и новых медиа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ициирование публикаций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спользование нетрадиционных форм (целевые утечки информации, опережение оппонентов в интерпретации событий, спланированные провокации и т.п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62040" y="1511280"/>
            <a:ext cx="75452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пециальные стратегии и методы применяются для установления отношений с властными структурами, бизнес-сектором и спонсорами, партнерам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к правило, партнеров подразделяют на три группы: тех, с которыми общие цели; тех, с которыми общие интересы; тех, с которыми общие проблемы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52360" y="1457280"/>
            <a:ext cx="723744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временные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технологии позволяют систематически и комбинировано использовать всю совокупность внутренних и внешних информационных связей, реализовать сильные стороны и элиминировать слабые.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561440" cy="54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84280" y="0"/>
            <a:ext cx="765972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ttp://conference.image-media.r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/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rcRect l="0" t="13892" r="5688" b="0"/>
          <a:stretch/>
        </p:blipFill>
        <p:spPr>
          <a:xfrm>
            <a:off x="360360" y="1116000"/>
            <a:ext cx="862344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61680" y="1299960"/>
            <a:ext cx="7770600" cy="53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АГ 1. СФОРМУЛИРОВАТЬ ЦЕЛ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имидже содержится определенное послание, которое будет различаться в зависимости от цел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миджмейкер определяет цель и формулирует главное послание: «Профессиональный и  компетентный», «Достоверный и надежный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312920"/>
            <a:ext cx="8137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диа  заинтересованы в формировании положительного образа -  это способствует росту численности аудитории, привлечению рекламодателей, и как следствие, увеличению доходов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АГ 2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ПРЕДЕЛИТЬ ЦЕЛЕВУЮ АУДИТОРИ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слание, заключенное в имидже, адресуется не всем людям, а конкретной аудитории.  На этом этапе имиджмейкер анализирует ожидания целевой аудитории, на их основании ведется дальнейшая работ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АГ 3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СТАВИТЬ  СПИСОК  ОСНОВНЫХ ИМИДЖЕВЫХ ПАРАМЕТРОВ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алее формируется список качеств/свойств, которые необходимо демонстрировать:  надежность, честность,  профессионализм, ответственность  и т.д. Эти качества служат поставленной цели и хорошо считываются целевой аудиторией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61680" y="1625400"/>
            <a:ext cx="777060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АГ 4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РАВНИТЬ РЕАЛЬНЫЕ И ЖЕЛАЕМЫЕ КАЧЕ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этом этапе проводится анализ текущих внутренних и внешних качеств. Выделяют 3 группы параметров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. Имеющиеся качества, которые работают на имидж. Их нужно оставлять, а некоторые — усиливать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АГ 4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2.Характеристики поведения или внешности, которые мешают имиджу или разрушают его. От них лучше избавиться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3. Качества, которые необходимы для создания имиджа, но у объекта имиджа их нет. Их нужно нарабатывать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61680" y="1625400"/>
            <a:ext cx="777060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АГ 5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БРАТЬ СРЕДСТВА САМОПРЕЗЕНТАЦИ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анный этап создания имиджа — самый сложный. Необходимо совместить обозначенные цели с объектом имиджа, учесть  особенности. В итоге формируются все параметры, необходимые для идеального имидж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браз газеты, телерадиопрограммы, информационного вестника, устойчивое представление, которое складывается у пользователя их информацией о периодическом издании - его характере, позиции и взглядах, особенностях содержания, оформления и других признаках и чертах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мидж периодического издания формируется в течение достаточно длительного времени. Он играет огромную роль в позиционировании издания, в расширении и укреплении его целевой аудитор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ля формирования определенного имиджа газеты или программы важны все их характеристики, все сторо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61680" y="1726920"/>
            <a:ext cx="7770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пределенную роль играет и человеческий фактор - известность, популярность, своеобразный личный имидж журналистов, выступающих на страницах печатного издания или в эфир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удущий имидж издания, программы  закладывают уже в его модель, определяя систему его публикаций, тематические рубрики и жанровые особенност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61680" y="104760"/>
            <a:ext cx="8481960" cy="74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Особенности формирования имиджа СМИ/меди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ровень СМИ и его качество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зиционировани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целенность на определенную аудиторию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ейминг, фирменный стиль, слоган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зайн/визуальная составляющая влияет на его конкурентоспособность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звестные журналисты, репортеры, ведущие (медийные персоны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заимопереплетение и взаимозависимость персональных имиджей и корпоративного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68360" y="936720"/>
            <a:ext cx="734400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собое значение имеет имидж телевизионных СМИ, ставших важнейшим средством распространения информации и одним из популярнейших видов досуга самой разнообразной зрительской аудитор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00360" y="3743280"/>
            <a:ext cx="4211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63640" y="1511280"/>
            <a:ext cx="7488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ждое СМИ  обладает собственным имиджем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условиях конкурентной борьбы, создание и поддержание положительного образа, и как следствие, сохранение и увеличение аудитории, просто необходимо.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1440000"/>
            <a:ext cx="835164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ля создания положительного образа СМИ осуществляется анализ существующего имиджа, который определяется путем анализа его восприяти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бычно для этого проводят интервью и тестирование, когда аудитории предлагается оценить конкретное СМИ или отдельные рубрики, программы и т.п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61680" y="1368000"/>
            <a:ext cx="819468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Имидж издания закладывают уже в его модель, определяя систему его публикаций, тематические рубрики и жанровые особенности. Если, например, деловое издание - газета или телепрограмма - не будет регулярно публиковать под соответствующими рубриками статистические данные: котировку валют, информацию о состоянии товарных рынков и т. п., его имидж лишь оттолкнет большую часть аудитории, на которую оно были рассчитано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47640" y="863640"/>
            <a:ext cx="82663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В какой-то мере имидж издания зависит и от организации его материалов, их подачи на полосах и в эфире. Беспорядок в организации материалов мешает пользователю информации, затрудняет нахождение того, что отвечает его интересам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Не находя этого, он отбросит газету или выключит телевизор. Лишь организовав информацию в соответствии с композиционной моделью издания, систематизировав ее, выделив главное и выстроив материалы в известном читателю или телезрителю и привычном для них порядке, можно рассчитывать на их внимание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82120" y="1285920"/>
            <a:ext cx="7985160" cy="51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ВОД:  В формировании имиджа СМИ очень важно правильное его конструирование, так как впечатление о СМИ И его информационно-коммуникативная конструкция должны быть положительными. Это одна из задач редакционного коллектива газеты или журнала - создание хорошего имиджа. Можно обойтись без рекламы, без предложения, но без образа (имиджа), никак не обойтис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rcRect l="0" t="7147" r="43688" b="0"/>
          <a:stretch/>
        </p:blipFill>
        <p:spPr>
          <a:xfrm>
            <a:off x="503280" y="431640"/>
            <a:ext cx="8136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мид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1477800"/>
            <a:ext cx="8286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то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формационно-коммуникативная конструкция, призванная обеспечивать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нутреннюю идентификацию сотрудников, целей и задач объекта имиджа  (здесь и далее то же относится к персоне, проекту, региону и в принципе к любому объекту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птимальное представление объекта имиджа  во внешнем мир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мидж обеспечивае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040" y="1643040"/>
            <a:ext cx="8286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словия для повышения позитивной известности объекта имиджа  в среде реальных и потенциальных партнеров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3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озможности для доминирующего узнавания и позитивного восприятия объекта имиджа  целевыми группами по сравнению с восприятием конкурент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Имиджмейкинг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80" y="1928880"/>
            <a:ext cx="82152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умма технологий создания образов реальности для манипулирования массовым сознание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вокупность технологий техник, элементов, операций,  предназначенных для реализации  задачи по формированию имиджа объекта (человека, предмета, явления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Создание имидж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ключает четыре основных этапа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здания фундамента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нешнего имиджа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нутреннего имиджа 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осязаемого имиджа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85840" y="1728720"/>
            <a:ext cx="81374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ждый из этапов направлен на достижение трех главных задач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остижение высокого уровня компетенции и эффективная работы с аудиторией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держание успешного имиджа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становление эмоциональной связи с аудиторией.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2:47:41Z</dcterms:created>
  <dc:creator>admin</dc:creator>
  <dc:description/>
  <dc:language>en-US</dc:language>
  <cp:lastModifiedBy>User</cp:lastModifiedBy>
  <dcterms:modified xsi:type="dcterms:W3CDTF">2016-12-11T09:57:55Z</dcterms:modified>
  <cp:revision>35</cp:revision>
  <dc:subject/>
  <dc:title>Библиотеки СМИ</dc:title>
</cp:coreProperties>
</file>