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BBD0-86FF-4773-9AEC-3AE4EDB4E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658B-FCC2-40EB-A551-172D80343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4F73-2C21-4CF3-B722-1FDB8D7B4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7D7C-6ED0-471D-AE3F-FF508B568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933E-68B6-4A61-9CEA-42C053E368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6041-9C4B-444C-94D8-A4975D20FD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9333-293F-498F-AD35-A91BAFF1E7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6C60-B7F0-4F61-89FA-C113205920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7EDF-006F-413A-B055-74DE9FBBA0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31B5-0F1E-47DD-941B-AEEE1B25DA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19B8-07B2-497F-B17E-B0855328F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B141-3CD3-41D5-BEA3-67616D728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E223-0954-4F63-92D3-A16D1096AF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8CE8-EEC0-43B4-9EE1-EA77DD2BB6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0C88C-CEA9-4263-951B-890133352E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40AD-32D4-4590-B97C-427C7FC116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CDBD-F082-4E72-B975-590D327163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749-AE4C-4571-AC5C-5F296CA3C2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459-7752-4F5E-AF12-F7A3DD69A6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7DC-F4D8-4012-92C1-44ADB60E62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7B0-3114-4E19-B5ED-DB7F78FB2B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DC3-0D68-473B-8494-DA83806E46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0E47-B307-4A7E-9121-7DD3C39283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145-2434-4D30-BB46-5D5DC09537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D71-12C9-4F02-99E6-CDE43DAAFB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A1D-C52A-4526-A97A-E4285F9C62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15F-87FB-4A20-B18C-082E26F810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F0E-736C-401A-8730-9D84FAB8A5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FD1-CC81-4760-9FA5-8C164E76AB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6B5-049E-4E19-8B8C-0E9CA19789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EAD15-3F81-4845-BBFF-7B94D3341C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90F42-ECB4-4CA9-B98D-EBA1D0E7C8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97400-A8C6-4D7D-87D8-8F70A1BA3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2D5C-F1B8-4425-B6BD-B03A0E0C99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E271D-2507-4C3C-BCC8-1689D2EA71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01002-B74C-457C-8E66-1EA0087AB2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2603E-C099-4A96-BAEE-C8E49B6AD7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48302-F299-438D-87D1-C70B482591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25181-E3C8-4D6C-B044-41B4A924BC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CF951-0B81-42BC-BAA9-590DC03E19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652F4-B21D-463F-A526-9C3A1CFFD6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5CC00-461E-4DBF-8F16-AAD52C8E05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D70DC-D016-4E04-A23D-576FC1BE3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A57F-1F55-427A-9257-0F8941E23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FAC6-D8ED-4A81-AF79-03E1076F7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9AC6-DA25-44F9-B6B4-C0D8595E9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12A2-0B6E-4561-8C40-C16D4362F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7EC8-EC59-4A4B-9171-3E071E323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78787"/>
              </a:gs>
              <a:gs pos="100000">
                <a:srgbClr val="828282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c9c9c"/>
              </a:gs>
              <a:gs pos="100000">
                <a:srgbClr val="6d6d6d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4FAAE2-7903-4869-A490-5E4431782F60}" type="slidenum">
              <a:rPr b="0" lang="ru-RU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78787"/>
              </a:gs>
              <a:gs pos="100000">
                <a:srgbClr val="828282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c9c9c"/>
              </a:gs>
              <a:gs pos="100000">
                <a:srgbClr val="6d6d6d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AD09637-8E07-419C-B41B-803C2BC553E5}" type="slidenum">
              <a:rPr b="0" lang="ru-RU" sz="1200" spc="-1" strike="noStrike">
                <a:solidFill>
                  <a:srgbClr val="ededed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78787"/>
              </a:gs>
              <a:gs pos="100000">
                <a:srgbClr val="828282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c9c9c"/>
              </a:gs>
              <a:gs pos="100000">
                <a:srgbClr val="6d6d6d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D296F6E-132E-4553-88A7-84246ED43EB2}" type="slidenum">
              <a:rPr b="0" lang="ru-RU" sz="1200" spc="-1" strike="noStrike">
                <a:solidFill>
                  <a:srgbClr val="ededed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78787"/>
              </a:gs>
              <a:gs pos="100000">
                <a:srgbClr val="828282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c9c9c"/>
              </a:gs>
              <a:gs pos="100000">
                <a:srgbClr val="6d6d6d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984DA81-D25F-4DE8-820C-5F380A5E60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9640" y="476280"/>
            <a:ext cx="828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инансов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R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в медиаотрасли. Использование 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R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в отношениях с инвестора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124000" y="2492280"/>
            <a:ext cx="455472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Задачи финансовых 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7. Сопровождение  IPO  (initial public offering  - первичное публичное размещение акций), проектов по выпуску корпоративных облигац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8.Создание и поддержание имиджа «финансово прозрачной» компан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9. Формирование и участие в реализации по развитию связей с инвестора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1197000"/>
            <a:ext cx="8424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грамма коммуникаций с финансовой общественностью включает не только описание целей и стратегий их достижения, но и тактику финансовых коммуникаци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алендарь тактических действий  может строиться в виде матрицы, где отражены элементы программы и сроки их выполнени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112536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инансовое сообщество составляют следующие основные групп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инансовые аналитик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ержатели акций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инансовые журналист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брокеры и др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абота с каждой из групп финансового сообщества требует знания финансов и коммуникаций одновременн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68360" y="1125360"/>
            <a:ext cx="849636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инансовый PR имеет своей целью достичь определенного "результата в бизнесе".  Усилия PR-службы сосредоточены на создании и поддержании наиболее благоприятной внешней среды для тех или иных шагов клиента в финансовой сфер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PR задача в этом случае может быть сформулирована так - создание условий для достижения финансового результа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1125360"/>
            <a:ext cx="849636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инансовый PR несколько отличается от investment relations, поскольку тут далеко не всегда речь идет о привлечении клиентом денег в свой бизнес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иболее распространенный пример финансового PR - работа по снижению либо повышению стоимости акций компании-клиента. В принципе, он не так уж далек от investment rel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619200"/>
            <a:ext cx="8569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marL="838080" indent="-836640" algn="ctr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тношения с инвестор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investor relation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)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1800360"/>
            <a:ext cx="864072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нвестор-релейшнз (investor relations) связи с инвесторами— технология менеджмента, направленная на коммуникацию и установление долгосрочных связей с финансовыми партнерами: инвесторами, частными банками и фондами, государственными инвестиционными и банковскими структура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619200"/>
            <a:ext cx="8569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marL="838080" indent="-836640" algn="ctr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тношения с инвестор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investor relation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)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2205000"/>
            <a:ext cx="5256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думанная и реализованная программа финансовых коммуникаций способна значительно улучшить репутацию и рыночную популярность успешно работающей компан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364000" y="2492280"/>
            <a:ext cx="333864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428760"/>
            <a:ext cx="87138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рганизация программы отношений с инвесторами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060640"/>
            <a:ext cx="8229600" cy="42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азрабатывая программу, следует учитывать, что компании конкурируют за капитал на рынке, поэтому необходимо вести коммуникации в масштабе всего финансового сообществ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грамма управляется директором по отношениям с инвесторами. При этом привлекаются и консультативные компан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0920" y="836640"/>
            <a:ext cx="85690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Аудитория отношений с инвесторами включает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инансовых аналитиков, рекомендующих инвесторам покупать или продавать акци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)брокеров, специализирующихся на акциях институциональных или индивидуальных инвестора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3)средства массовой информаци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4)занятых и другие групп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се эти аудитории должны получить прямые коммуникации, поскольку все они имеют различные интересы и потреб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26920" y="981000"/>
            <a:ext cx="74170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сновными являются источниками:  финансовые аналитики и С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Аналитики рынка акций влияют на поведение институциональных и прочих инвесторов. Поэтому они составляют значимый сегмент общественности и с ними необходимо работ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сновную роль здесь должны играть надежные коммуникации. Для этого необходимо обеспечить достижимость корпоративного менеджмента для аналитик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692280"/>
            <a:ext cx="8099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опрос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2637000"/>
            <a:ext cx="8497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Times New Roman"/>
              <a:buAutoNum type="arabicPeriod"/>
              <a:tabLst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сновы финансовых паблик рилейшнз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Times New Roman"/>
              <a:buAutoNum type="arabicPeriod"/>
              <a:tabLst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Цели и задачи финансового Р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Times New Roman"/>
              <a:buAutoNum type="arabicPeriod"/>
              <a:tabLst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тношения с инвесторами (investor relation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пециализированные средства финансовых  коммуникаций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060640"/>
            <a:ext cx="85690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мпании дополняют традиционные сре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инансовых коммуникаций специализированными, т.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ассчитанными на отдельные сегменты финансов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ообще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еимущественно для аналитиков рынков ц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бумаг и институциональных инвесторов компа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ыпуска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пециальные брошю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 обзором фактов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татистикой деятельности компан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Цель — дать специализированную информац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остаточно занятому аналитику для возможн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спользования в своих обзорах и рекомендация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4000" y="1197000"/>
            <a:ext cx="849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оведение идей по управлению компанией до акционеров осущест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ассылкой сообщений в одном пакете с дивиденд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ля углубленного ознакомления широкой общественности с собственной деятельностью компания перепечатывает свой отчет о прибылях и убытках и балансовый отчет в СМИ и иногда делает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пециальные медиа-выпус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нципы успешного ведения коммуникаций с инвесторам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935000"/>
            <a:ext cx="843588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Активност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движ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успех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ективность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Лояльность инвестор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ледует искать в хорошие времена. Ког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мпания стоит перед угрозой её покупк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скать расположения инвесторов уже слишк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зд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4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следовательность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тношения с инвесторами — непрерывная деятельность, а не сер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нципы успешного ведения коммуникаций с инвестор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5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охранение коммуникаций даже для плохих новостей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еобходимо встречаться с инвесторами как в хорошие, так и в плохие времен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6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нициатива коммуникаций должна исходить из компан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 опережать инициативу коммуникаций со стороны инвесторов. Компания нуждается в благорасположении инвесторов, должна искать возможности информировать инвесторов о себе, вместо того, чтобы заставлять их обнаруживать нехватку такой информации 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981000"/>
            <a:ext cx="8748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ледует отметить, что если  до 2008 года бизнес среда была блогосклонна к медиаотрасли - отечественный медиабизнес развивался достаточно высокими темпами,  медибизнес был весьма и весьма привлекателен для различных инвесторов – как отечественных так и зарубежных (так, например, оборот News Outdoor Russia (Р.Мердок) в 2006-2007 годах составил 385 млн. долларов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мела место так называемая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экстенсивная мод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 развития – «развитие не в глубь,  а в ширь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95280" y="1197000"/>
            <a:ext cx="829152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сле  глобального финансового кризиса 2008 г. внешняя среда медиабизнеса резко изменилась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озникший кризис ликвидности, утрата интереса инвесторов к инвестиционным и венчурным проектам привели к стагнации подавляющего большинства сегментов медиарын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68360" y="1052640"/>
            <a:ext cx="8351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Экстенсивная стратегия развития сменилась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нтенсивной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 оптимизация и эффективное использование имеющихся ресурсов медиапредприяти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з стратегических направлений этого периода можно выделить: резкое снижение издержек, сокращение персонала, пересмотр планов на среднесрочную перспективу и закрытие долгосрочных инвестиционных проект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1125360"/>
            <a:ext cx="842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овременная ситу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Большинство новых медиапроектов запускаются и финансируются инвесторами, однако в связи со сложившейся ситуацией на медиарынке (низкая транспарентность, изменчивый тренд основных показателей доходности медиакомпаний, низкие показатели эффективности медиасегмента) инвесторы неактивно вкладываются в СМИ (особенно традиционные), многие зарубежные инвесторы наоборот активно выводят свои активы из российского медиабизне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ким образ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овременные медиапредприятия нуждаются в налаживании эффективных финансовых коммуникаций с инвесторами, финансовыми аналитика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какой-то мере решить эти задачи помогут специалисты  по связям с общественностью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инансовые РR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диного определения термина  не существу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нная сфера деятельности не имеет единой теоретической базы. В финансовом РR тесно переплетаются стратегические корпоративные коммуникации, маркетинг и финансовый менеджмен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ммуникации современной компании - это коммуникации с инвестиционной общественностью (банками, частными инвесторами, рейтинговыми агентствами, биржами и др.) в сочетании с коммуникациями с государственными органами и широкой общественностью (контрагенты, клиенты, население и др.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общем понимании, «финансовый РR» – это распространение информации, которая влияет на понимание акционерами и инвесторами финансового состояния и перспектив компании, а также способствует улучшению отношений между компанией и ее акционера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бщие принципы финансовых 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R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700280"/>
            <a:ext cx="8569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личие стратегического плана РR-активности и постоянный мониторинг за его выполнением, корректировка, при необходимости, долгосрочной схемы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едоставление объективной и полной информации, создание четкого представления о рентабельности компании – всех формах дивидендов, доходов от продажи акций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8360" y="404640"/>
            <a:ext cx="82296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бщие принципы финансовых 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1844640"/>
            <a:ext cx="87138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едоставление и для внешней, и для внутренней общественности информации о компании, ее подразделениях и филиалах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ступательность коммуникации, продвижение успеха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заимодействие с финансовыми аналитиками и представителями финансового сообщества, инициатива должна исходить, как правило, от компан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549360"/>
            <a:ext cx="82296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Задачи финансовых 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935000"/>
            <a:ext cx="836280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Times New Roman"/>
              <a:buAutoNum type="arabicPeriod"/>
              <a:tabLst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ормирование репутации на рынке капитал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Times New Roman"/>
              <a:buAutoNum type="arabicPeriod"/>
              <a:tabLst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ормирование благоприятных отношений с экспертами и аналитика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95000"/>
              <a:buFont typeface="Times New Roman"/>
              <a:buAutoNum type="arabicPeriod"/>
              <a:tabLst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нформационное обслуживание процесса финансовой деятель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5280" y="54936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Задачи финансовых 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184464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4. Информационное обслуживание компаний – участников фондового рын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5. Информационное сопровождение процессов слияний и поглащений, реструктуризац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6. Разработка стратегии финансовой рекламы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9:15:25Z</dcterms:created>
  <dc:creator>User</dc:creator>
  <dc:description/>
  <dc:language>en-US</dc:language>
  <cp:lastModifiedBy>Кафедра</cp:lastModifiedBy>
  <dcterms:modified xsi:type="dcterms:W3CDTF">2017-11-22T09:01:15Z</dcterms:modified>
  <cp:revision>32</cp:revision>
  <dc:subject/>
  <dc:title>Финансовые РR. Использование РR в отношениях с инвесторами.</dc:title>
</cp:coreProperties>
</file>